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9201-6084-4524-9D3B-8DE36323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ECD7-3659-4864-98CA-C676D553D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E9BC-66B5-4F44-9B5B-C8DBA7E3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8BF3-8536-455E-86B2-37F17691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F843-4B5C-4D6B-9A3F-B443426D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BFF-B419-401B-9DCD-CB0C7102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F1C-8852-4F82-AA07-71749B61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48E-51EA-40E7-843C-567A4596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8EC6-AE0E-4A6B-A1F6-5B3CC48D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E65-7975-48A7-BA3E-856BA876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DAB6-E8BF-4B40-B335-9C73BACB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91FB-D341-42AD-B0AA-EDAC6B1E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0AF6-2B42-4F10-8B1D-D81246053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codeforces.com/problemset/problem/431/C" TargetMode="External"/><Relationship Id="rId2" Type="http://schemas.openxmlformats.org/officeDocument/2006/relationships/hyperlink" Target="https://codeforces.com/problemset/problem/1032/C" TargetMode="External"/><Relationship Id="rId3" Type="http://schemas.openxmlformats.org/officeDocument/2006/relationships/hyperlink" Target="https://codeforces.com/problemset/problem/294/B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Janez Bran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8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2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da zaporedje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samo </a:t>
            </a:r>
            <a:r>
              <a:rPr b="0" i="1" lang="sl-SI" sz="2400" spc="-1" strike="noStrike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1 podzapored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rej očitno veliko teh klicev po večkrat obdeluje </a:t>
            </a:r>
            <a:br>
              <a:rPr sz="2400"/>
            </a:b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ena in ista podzapored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deja: ko prvič obdelamo neko podzaporedje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hranimo rezultat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neko tabelo. 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 kasnejših klicih ga poberemo od tam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ga ni treba ponovno računat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klic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924360" y="119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042920" y="1197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1116000" y="1700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2340000" y="1989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4716360" y="191628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588000" y="1773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6877080" y="126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0" y="184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0" y="2276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1332000" y="2349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11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1332000" y="2997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2916360" y="2708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183528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98764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10800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1,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Text Box 21"/>
          <p:cNvSpPr/>
          <p:nvPr/>
        </p:nvSpPr>
        <p:spPr>
          <a:xfrm>
            <a:off x="395280" y="3716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Text Box 22"/>
          <p:cNvSpPr/>
          <p:nvPr/>
        </p:nvSpPr>
        <p:spPr>
          <a:xfrm>
            <a:off x="8007480" y="1773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Text Box 23"/>
          <p:cNvSpPr/>
          <p:nvPr/>
        </p:nvSpPr>
        <p:spPr>
          <a:xfrm>
            <a:off x="8007480" y="2205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4140360" y="263700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6877080" y="249228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Text Box 26"/>
          <p:cNvSpPr/>
          <p:nvPr/>
        </p:nvSpPr>
        <p:spPr>
          <a:xfrm>
            <a:off x="5867280" y="278136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Text Box 27"/>
          <p:cNvSpPr/>
          <p:nvPr/>
        </p:nvSpPr>
        <p:spPr>
          <a:xfrm>
            <a:off x="4859280" y="328464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Text Box 28"/>
          <p:cNvSpPr/>
          <p:nvPr/>
        </p:nvSpPr>
        <p:spPr>
          <a:xfrm>
            <a:off x="4284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2,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Text Box 29"/>
          <p:cNvSpPr/>
          <p:nvPr/>
        </p:nvSpPr>
        <p:spPr>
          <a:xfrm>
            <a:off x="5292720" y="400536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6732720" y="3284640"/>
            <a:ext cx="113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4, 4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3" name="Text Box 31"/>
          <p:cNvSpPr/>
          <p:nvPr/>
        </p:nvSpPr>
        <p:spPr>
          <a:xfrm>
            <a:off x="6300720" y="3645000"/>
            <a:ext cx="11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(3,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4" name="Line 32"/>
          <p:cNvSpPr/>
          <p:nvPr/>
        </p:nvSpPr>
        <p:spPr>
          <a:xfrm flipH="1">
            <a:off x="2123640" y="141300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Line 33"/>
          <p:cNvSpPr/>
          <p:nvPr/>
        </p:nvSpPr>
        <p:spPr>
          <a:xfrm>
            <a:off x="5003640" y="1413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Line 34"/>
          <p:cNvSpPr/>
          <p:nvPr/>
        </p:nvSpPr>
        <p:spPr>
          <a:xfrm>
            <a:off x="4932360" y="1484280"/>
            <a:ext cx="172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7" name="Line 35"/>
          <p:cNvSpPr/>
          <p:nvPr/>
        </p:nvSpPr>
        <p:spPr>
          <a:xfrm>
            <a:off x="7667640" y="1989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7596360" y="213372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9" name="Line 37"/>
          <p:cNvSpPr/>
          <p:nvPr/>
        </p:nvSpPr>
        <p:spPr>
          <a:xfrm>
            <a:off x="4643280" y="155736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Line 38"/>
          <p:cNvSpPr/>
          <p:nvPr/>
        </p:nvSpPr>
        <p:spPr>
          <a:xfrm flipH="1">
            <a:off x="4716000" y="227664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1" name="Line 39"/>
          <p:cNvSpPr/>
          <p:nvPr/>
        </p:nvSpPr>
        <p:spPr>
          <a:xfrm>
            <a:off x="5364000" y="2276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Line 40"/>
          <p:cNvSpPr/>
          <p:nvPr/>
        </p:nvSpPr>
        <p:spPr>
          <a:xfrm>
            <a:off x="5508720" y="2276640"/>
            <a:ext cx="71892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3" name="Line 41"/>
          <p:cNvSpPr/>
          <p:nvPr/>
        </p:nvSpPr>
        <p:spPr>
          <a:xfrm>
            <a:off x="5651640" y="2276640"/>
            <a:ext cx="129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Line 42"/>
          <p:cNvSpPr/>
          <p:nvPr/>
        </p:nvSpPr>
        <p:spPr>
          <a:xfrm>
            <a:off x="6227640" y="314172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Line 43"/>
          <p:cNvSpPr/>
          <p:nvPr/>
        </p:nvSpPr>
        <p:spPr>
          <a:xfrm>
            <a:off x="6516720" y="3141720"/>
            <a:ext cx="360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Line 44"/>
          <p:cNvSpPr/>
          <p:nvPr/>
        </p:nvSpPr>
        <p:spPr>
          <a:xfrm flipH="1">
            <a:off x="4932000" y="364500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7" name="Line 45"/>
          <p:cNvSpPr/>
          <p:nvPr/>
        </p:nvSpPr>
        <p:spPr>
          <a:xfrm>
            <a:off x="5364000" y="3645000"/>
            <a:ext cx="2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8" name="Line 46"/>
          <p:cNvSpPr/>
          <p:nvPr/>
        </p:nvSpPr>
        <p:spPr>
          <a:xfrm flipH="1">
            <a:off x="3347640" y="1484280"/>
            <a:ext cx="863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Line 47"/>
          <p:cNvSpPr/>
          <p:nvPr/>
        </p:nvSpPr>
        <p:spPr>
          <a:xfrm flipH="1">
            <a:off x="2340000" y="2349360"/>
            <a:ext cx="2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Line 48"/>
          <p:cNvSpPr/>
          <p:nvPr/>
        </p:nvSpPr>
        <p:spPr>
          <a:xfrm flipH="1">
            <a:off x="2050920" y="2349360"/>
            <a:ext cx="72072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Line 49"/>
          <p:cNvSpPr/>
          <p:nvPr/>
        </p:nvSpPr>
        <p:spPr>
          <a:xfrm flipH="1">
            <a:off x="2842920" y="2421000"/>
            <a:ext cx="73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2" name="Line 50"/>
          <p:cNvSpPr/>
          <p:nvPr/>
        </p:nvSpPr>
        <p:spPr>
          <a:xfrm>
            <a:off x="3059280" y="2349360"/>
            <a:ext cx="1443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Line 51"/>
          <p:cNvSpPr/>
          <p:nvPr/>
        </p:nvSpPr>
        <p:spPr>
          <a:xfrm flipH="1">
            <a:off x="2411280" y="3573360"/>
            <a:ext cx="4320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Line 52"/>
          <p:cNvSpPr/>
          <p:nvPr/>
        </p:nvSpPr>
        <p:spPr>
          <a:xfrm>
            <a:off x="2916360" y="357336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Line 53"/>
          <p:cNvSpPr/>
          <p:nvPr/>
        </p:nvSpPr>
        <p:spPr>
          <a:xfrm flipH="1">
            <a:off x="1115640" y="3284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6" name="Line 54"/>
          <p:cNvSpPr/>
          <p:nvPr/>
        </p:nvSpPr>
        <p:spPr>
          <a:xfrm flipH="1">
            <a:off x="1116000" y="3284640"/>
            <a:ext cx="503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Line 55"/>
          <p:cNvSpPr/>
          <p:nvPr/>
        </p:nvSpPr>
        <p:spPr>
          <a:xfrm flipH="1">
            <a:off x="1042920" y="1916280"/>
            <a:ext cx="21600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Line 56"/>
          <p:cNvSpPr/>
          <p:nvPr/>
        </p:nvSpPr>
        <p:spPr>
          <a:xfrm flipH="1">
            <a:off x="971280" y="198900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Line 57"/>
          <p:cNvSpPr/>
          <p:nvPr/>
        </p:nvSpPr>
        <p:spPr>
          <a:xfrm flipH="1">
            <a:off x="2124000" y="1484280"/>
            <a:ext cx="1943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Memoizacija (pomnjenje)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i := 1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 fo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–1;  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inicializacija tabele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0070c0"/>
                </a:solidFill>
                <a:latin typeface="Garamond"/>
              </a:rPr>
              <a:t> ni česa rez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</a:t>
            </a:r>
            <a:r>
              <a:rPr b="0" lang="sl-SI" sz="2000" spc="-1" strike="noStrike">
                <a:solidFill>
                  <a:srgbClr val="ff0000"/>
                </a:solidFill>
                <a:latin typeface="Symbol"/>
                <a:ea typeface="Symbol"/>
              </a:rPr>
              <a:t>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0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ff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;   </a:t>
            </a:r>
            <a:r>
              <a:rPr b="0" lang="en-US" sz="2000" spc="-1" strike="noStrike">
                <a:solidFill>
                  <a:srgbClr val="ff0000"/>
                </a:solidFill>
                <a:latin typeface="Garamond"/>
              </a:rPr>
              <a:t>//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 rešitev že poznamo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ff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] :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MinCena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porab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konstant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nogo časa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azen če s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rvič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rečuje s parom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pa pora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časa, če odmislimo čas za izvajanje rekurzivnih klicev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kupaj imamo torej časovno zahtevnost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[št. zaporedij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[čas obdelave zaporedja dolžine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1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3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2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/6 = 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O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000" spc="-1" strike="noStrike" baseline="30000">
                <a:solidFill>
                  <a:srgbClr val="ff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 s prejšnje folije je v bistvu že dinamično programiranj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Lahko pa smo še bolj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sistematičn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se izvajajo naši rekurzivni klici, bomo prej ali slej izračunali rešite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vse pare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eden lahko izračunam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rebujemo v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z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'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Tabel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] lahko torej polnimo čisto sistematično,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od krajših podzaporedij proti daljši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nam zagotavlja, da bomo imeli vedno pri roki rešitve podproblemov, ki jih bomo potrebovali za trenutni problem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2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 beg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end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</a:t>
            </a:r>
            <a:br>
              <a:rPr sz="2400"/>
            </a:b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o je še ved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tako kot prejšnja rešitev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i pa znala biti v praksi malo hitrejša, ker je zdaj manj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verheada z rekurzivnimi klici, knjigovodstvom ip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cep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šem problemu opazim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o istega tipa kot glavni problem, le da so manjši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primer: problem je zaporedj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roblemi so podzapored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bistvu si lahko mislimo, da smo problem malo posplošili.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časih je treba biti malo zvit, da opaziš primerno posplošite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 problema znamo izračunati iz rešitev podproblemov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dproblemi imajo spet svoje podpodrobleme, itd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pazimo, da se začnejo podpodproblemi, podpodpodproblemi, itd.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t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pazimo, d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ne računamo istega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dpod...problema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 večkrat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 podpod...problema si zapomnim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bo prišla prav še kasneje (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a tud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delamo vse podpod...probleme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manjših proti večjim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si tudi zapomnimo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k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mo prišli do rešitve. 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 pomočjo teh podatkov na koncu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rekonstruiramo najboljšo rešitev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npr. to, v kakšnem vrstnem redu moramo rezati zemljišče)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ežav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se podpod...problemi ne ponavljajo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oz. če pač obstaja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eksponentno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nogo različnih podpod...problemov, si z dinamičnim programiranjem pač ne moremo pomagati do polinomske rešitve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Če je podpod...problemov polinomsko mnogo, jih je lahko še vseen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reveč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da bi hranili vse njihove rešitve v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mnilnik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dvisno seveda od tega, s kakšnim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mamo opravk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časih se da rešitve majhnih pod...problemov sproti pozabljati (npr. če je podproblem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odvisen le od podproblemov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, ne pa od tistih velik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2 in manjših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Še nekaj podobnih problem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 bi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množil zaporedje matri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 Kako postaviti oklepaje, da bo skupna cena množenja najmanjša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izraz 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/ … /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pri čemer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eka znana števila.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Postavi oklepaj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v ta izraz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IOI 1998) Dan je cikel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op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. Operatorji so + in ·. Nekje ga prereži, da nastane izraz, in nato postavi oklepaje tako, da bo imel največjo možno vrednos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Floyd-Warshal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Dan je graf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}, vsaka povezava ima tudi dolžino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Zanimajo nas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olžine najkrajših pot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med vsemi pari točk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eveda lahko npr. poženemo Dijkstro po enkrat za vsako možno začetno točko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a vsako možno začetno točk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Ali pa Bellman-Forda z množenjem matrik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log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Floyd-Warshall pa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kar je še posebej lepo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graf gos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noge optimizacijske probleme lahko rešimo tako, da v problemu opazimo manjš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dproblem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ak podproblem je iste vrste kot prvotni problem, le malo manjši j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Rešimo ga tako, da v njem opazimo še manjše podpodprobleme in tako naprej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Sčasoma pridemo do trivialno majhnih pod…problemov, ki jih znamo re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itev večjega problema znamo izračunati iz rešitev njegovih podproblemov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 dinamičnem programiranju govorimo v primerih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 se podproblemi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ponavlja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krat si je koristno rešitve podproblemov zapomniti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 jih ne bo treba računati po večkrat (</a:t>
            </a:r>
            <a:r>
              <a:rPr b="0" i="1" lang="sl-SI" sz="1800" spc="-1" strike="noStrike">
                <a:solidFill>
                  <a:srgbClr val="ff0000"/>
                </a:solidFill>
                <a:latin typeface="Garamond"/>
              </a:rPr>
              <a:t>memoizacija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 tem lahko prihrani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grom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gosto lahko rešitve podproblemov računamo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elo </a:t>
            </a:r>
            <a:r>
              <a:rPr b="0" lang="sl-SI" sz="1800" spc="-1" strike="noStrike">
                <a:solidFill>
                  <a:srgbClr val="ff0000"/>
                </a:solidFill>
                <a:latin typeface="Garamond"/>
              </a:rPr>
              <a:t>sistematičn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od manjših k večji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ziv je ponavadi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paziti, da je naša naloga primerna za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reševanje z dinamičnim programiranje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omisliti se, kako razbiti problem na podproblem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94320" indent="-198720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Pri tem moramo problem pogosto malo posplošiti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6012000" y="3284640"/>
            <a:ext cx="2232000" cy="2376360"/>
            <a:chOff x="6012000" y="3284640"/>
            <a:chExt cx="2232000" cy="2376360"/>
          </a:xfrm>
        </p:grpSpPr>
        <p:cxnSp>
          <p:nvCxnSpPr>
            <p:cNvPr id="46" name="Straight Arrow Connector 4"/>
            <p:cNvCxnSpPr>
              <a:stCxn id="47" idx="3"/>
              <a:endCxn id="48" idx="7"/>
            </p:cNvCxnSpPr>
            <p:nvPr/>
          </p:nvCxnSpPr>
          <p:spPr>
            <a:xfrm flipH="1">
              <a:off x="6627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49" name="Straight Arrow Connector 5"/>
            <p:cNvCxnSpPr>
              <a:stCxn id="47" idx="5"/>
              <a:endCxn id="50" idx="1"/>
            </p:cNvCxnSpPr>
            <p:nvPr/>
          </p:nvCxnSpPr>
          <p:spPr>
            <a:xfrm>
              <a:off x="7203240" y="346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1" name="Straight Arrow Connector 6"/>
            <p:cNvCxnSpPr>
              <a:stCxn id="48" idx="3"/>
              <a:endCxn id="52" idx="0"/>
            </p:cNvCxnSpPr>
            <p:nvPr/>
          </p:nvCxnSpPr>
          <p:spPr>
            <a:xfrm flipH="1">
              <a:off x="626400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3" name="Straight Arrow Connector 7"/>
            <p:cNvCxnSpPr>
              <a:stCxn id="48" idx="5"/>
              <a:endCxn id="54" idx="0"/>
            </p:cNvCxnSpPr>
            <p:nvPr/>
          </p:nvCxnSpPr>
          <p:spPr>
            <a:xfrm>
              <a:off x="662796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5" name="Straight Arrow Connector 8"/>
            <p:cNvCxnSpPr>
              <a:stCxn id="50" idx="3"/>
              <a:endCxn id="56" idx="0"/>
            </p:cNvCxnSpPr>
            <p:nvPr/>
          </p:nvCxnSpPr>
          <p:spPr>
            <a:xfrm flipH="1">
              <a:off x="7414920" y="4189320"/>
              <a:ext cx="21312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7" name="Straight Arrow Connector 9"/>
            <p:cNvCxnSpPr>
              <a:stCxn id="50" idx="5"/>
              <a:endCxn id="58" idx="0"/>
            </p:cNvCxnSpPr>
            <p:nvPr/>
          </p:nvCxnSpPr>
          <p:spPr>
            <a:xfrm>
              <a:off x="7780680" y="4189320"/>
              <a:ext cx="211680" cy="53568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59" name="Straight Arrow Connector 10"/>
            <p:cNvCxnSpPr>
              <a:stCxn id="52" idx="3"/>
              <a:endCxn id="60" idx="0"/>
            </p:cNvCxnSpPr>
            <p:nvPr/>
          </p:nvCxnSpPr>
          <p:spPr>
            <a:xfrm flipH="1">
              <a:off x="611892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1" name="Straight Arrow Connector 11"/>
            <p:cNvCxnSpPr>
              <a:stCxn id="52" idx="6"/>
              <a:endCxn id="62" idx="0"/>
            </p:cNvCxnSpPr>
            <p:nvPr/>
          </p:nvCxnSpPr>
          <p:spPr>
            <a:xfrm>
              <a:off x="6372000" y="4832280"/>
              <a:ext cx="35640" cy="61344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3" name="Straight Arrow Connector 12"/>
            <p:cNvCxnSpPr>
              <a:stCxn id="54" idx="3"/>
              <a:endCxn id="64" idx="0"/>
            </p:cNvCxnSpPr>
            <p:nvPr/>
          </p:nvCxnSpPr>
          <p:spPr>
            <a:xfrm flipH="1">
              <a:off x="669528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5" name="Straight Arrow Connector 13"/>
            <p:cNvCxnSpPr>
              <a:stCxn id="54" idx="5"/>
              <a:endCxn id="66" idx="0"/>
            </p:cNvCxnSpPr>
            <p:nvPr/>
          </p:nvCxnSpPr>
          <p:spPr>
            <a:xfrm>
              <a:off x="69156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7" name="Straight Arrow Connector 14"/>
            <p:cNvCxnSpPr>
              <a:stCxn id="56" idx="3"/>
              <a:endCxn id="68" idx="0"/>
            </p:cNvCxnSpPr>
            <p:nvPr/>
          </p:nvCxnSpPr>
          <p:spPr>
            <a:xfrm flipH="1">
              <a:off x="727164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69" name="Straight Arrow Connector 15"/>
            <p:cNvCxnSpPr>
              <a:stCxn id="56" idx="5"/>
              <a:endCxn id="70" idx="0"/>
            </p:cNvCxnSpPr>
            <p:nvPr/>
          </p:nvCxnSpPr>
          <p:spPr>
            <a:xfrm>
              <a:off x="749196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1" name="Straight Arrow Connector 16"/>
            <p:cNvCxnSpPr>
              <a:stCxn id="58" idx="3"/>
              <a:endCxn id="72" idx="0"/>
            </p:cNvCxnSpPr>
            <p:nvPr/>
          </p:nvCxnSpPr>
          <p:spPr>
            <a:xfrm flipH="1">
              <a:off x="7848000" y="4908600"/>
              <a:ext cx="6732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3" name="Straight Arrow Connector 17"/>
            <p:cNvCxnSpPr>
              <a:stCxn id="58" idx="5"/>
              <a:endCxn id="74" idx="0"/>
            </p:cNvCxnSpPr>
            <p:nvPr/>
          </p:nvCxnSpPr>
          <p:spPr>
            <a:xfrm>
              <a:off x="8066880" y="4908600"/>
              <a:ext cx="68760" cy="5367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47" name="Oval 18"/>
            <p:cNvSpPr/>
            <p:nvPr/>
          </p:nvSpPr>
          <p:spPr>
            <a:xfrm>
              <a:off x="7020000" y="328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" name="Oval 19"/>
            <p:cNvSpPr/>
            <p:nvPr/>
          </p:nvSpPr>
          <p:spPr>
            <a:xfrm>
              <a:off x="644364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" name="Oval 20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0" name="Oval 21"/>
            <p:cNvSpPr/>
            <p:nvPr/>
          </p:nvSpPr>
          <p:spPr>
            <a:xfrm>
              <a:off x="601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2" name="Oval 22"/>
            <p:cNvSpPr/>
            <p:nvPr/>
          </p:nvSpPr>
          <p:spPr>
            <a:xfrm>
              <a:off x="62992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4" name="Oval 23"/>
            <p:cNvSpPr/>
            <p:nvPr/>
          </p:nvSpPr>
          <p:spPr>
            <a:xfrm>
              <a:off x="6588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6" name="Oval 24"/>
            <p:cNvSpPr/>
            <p:nvPr/>
          </p:nvSpPr>
          <p:spPr>
            <a:xfrm>
              <a:off x="687564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68" name="Oval 25"/>
            <p:cNvSpPr/>
            <p:nvPr/>
          </p:nvSpPr>
          <p:spPr>
            <a:xfrm>
              <a:off x="7164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0" name="Oval 26"/>
            <p:cNvSpPr/>
            <p:nvPr/>
          </p:nvSpPr>
          <p:spPr>
            <a:xfrm>
              <a:off x="745200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2" name="Oval 27"/>
            <p:cNvSpPr/>
            <p:nvPr/>
          </p:nvSpPr>
          <p:spPr>
            <a:xfrm>
              <a:off x="7740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4" name="Oval 28"/>
            <p:cNvSpPr/>
            <p:nvPr/>
          </p:nvSpPr>
          <p:spPr>
            <a:xfrm>
              <a:off x="8028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" name="Oval 29"/>
            <p:cNvSpPr/>
            <p:nvPr/>
          </p:nvSpPr>
          <p:spPr>
            <a:xfrm>
              <a:off x="615636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" name="Oval 30"/>
            <p:cNvSpPr/>
            <p:nvPr/>
          </p:nvSpPr>
          <p:spPr>
            <a:xfrm>
              <a:off x="673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6" name="Oval 31"/>
            <p:cNvSpPr/>
            <p:nvPr/>
          </p:nvSpPr>
          <p:spPr>
            <a:xfrm>
              <a:off x="730728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8" name="Oval 32"/>
            <p:cNvSpPr/>
            <p:nvPr/>
          </p:nvSpPr>
          <p:spPr>
            <a:xfrm>
              <a:off x="788364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75" name="Group 33"/>
          <p:cNvGrpSpPr/>
          <p:nvPr/>
        </p:nvGrpSpPr>
        <p:grpSpPr>
          <a:xfrm>
            <a:off x="5292720" y="3284640"/>
            <a:ext cx="3672000" cy="2376360"/>
            <a:chOff x="5292720" y="3284640"/>
            <a:chExt cx="3672000" cy="2376360"/>
          </a:xfrm>
        </p:grpSpPr>
        <p:cxnSp>
          <p:nvCxnSpPr>
            <p:cNvPr id="76" name="Straight Arrow Connector 34"/>
            <p:cNvCxnSpPr>
              <a:stCxn id="77" idx="3"/>
              <a:endCxn id="78" idx="7"/>
            </p:cNvCxnSpPr>
            <p:nvPr/>
          </p:nvCxnSpPr>
          <p:spPr>
            <a:xfrm flipH="1">
              <a:off x="6628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79" name="Straight Arrow Connector 35"/>
            <p:cNvCxnSpPr>
              <a:stCxn id="77" idx="5"/>
              <a:endCxn id="80" idx="1"/>
            </p:cNvCxnSpPr>
            <p:nvPr/>
          </p:nvCxnSpPr>
          <p:spPr>
            <a:xfrm>
              <a:off x="7204680" y="346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1" name="Straight Arrow Connector 36"/>
            <p:cNvCxnSpPr>
              <a:stCxn id="78" idx="3"/>
              <a:endCxn id="82" idx="7"/>
            </p:cNvCxnSpPr>
            <p:nvPr/>
          </p:nvCxnSpPr>
          <p:spPr>
            <a:xfrm flipH="1">
              <a:off x="605232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3" name="Straight Arrow Connector 37"/>
            <p:cNvCxnSpPr>
              <a:stCxn id="78" idx="5"/>
              <a:endCxn id="84" idx="1"/>
            </p:cNvCxnSpPr>
            <p:nvPr/>
          </p:nvCxnSpPr>
          <p:spPr>
            <a:xfrm>
              <a:off x="662832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5" name="Straight Arrow Connector 38"/>
            <p:cNvCxnSpPr>
              <a:stCxn id="80" idx="3"/>
              <a:endCxn id="84" idx="7"/>
            </p:cNvCxnSpPr>
            <p:nvPr/>
          </p:nvCxnSpPr>
          <p:spPr>
            <a:xfrm flipH="1">
              <a:off x="7205040" y="4189320"/>
              <a:ext cx="42300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6" name="Straight Arrow Connector 39"/>
            <p:cNvCxnSpPr>
              <a:stCxn id="80" idx="5"/>
              <a:endCxn id="87" idx="1"/>
            </p:cNvCxnSpPr>
            <p:nvPr/>
          </p:nvCxnSpPr>
          <p:spPr>
            <a:xfrm>
              <a:off x="7779240" y="4189320"/>
              <a:ext cx="424440" cy="56736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88" name="Straight Arrow Connector 40"/>
            <p:cNvCxnSpPr>
              <a:stCxn id="82" idx="3"/>
              <a:endCxn id="89" idx="7"/>
            </p:cNvCxnSpPr>
            <p:nvPr/>
          </p:nvCxnSpPr>
          <p:spPr>
            <a:xfrm flipH="1">
              <a:off x="5475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0" name="Straight Arrow Connector 41"/>
            <p:cNvCxnSpPr>
              <a:stCxn id="82" idx="5"/>
              <a:endCxn id="91" idx="1"/>
            </p:cNvCxnSpPr>
            <p:nvPr/>
          </p:nvCxnSpPr>
          <p:spPr>
            <a:xfrm>
              <a:off x="605196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2" name="Straight Arrow Connector 42"/>
            <p:cNvCxnSpPr>
              <a:stCxn id="84" idx="3"/>
              <a:endCxn id="91" idx="7"/>
            </p:cNvCxnSpPr>
            <p:nvPr/>
          </p:nvCxnSpPr>
          <p:spPr>
            <a:xfrm flipH="1">
              <a:off x="6628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3" name="Straight Arrow Connector 43"/>
            <p:cNvCxnSpPr>
              <a:stCxn id="84" idx="5"/>
              <a:endCxn id="94" idx="1"/>
            </p:cNvCxnSpPr>
            <p:nvPr/>
          </p:nvCxnSpPr>
          <p:spPr>
            <a:xfrm>
              <a:off x="7204680" y="4908600"/>
              <a:ext cx="42300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5" name="Straight Arrow Connector 44"/>
            <p:cNvCxnSpPr>
              <a:stCxn id="87" idx="3"/>
              <a:endCxn id="94" idx="7"/>
            </p:cNvCxnSpPr>
            <p:nvPr/>
          </p:nvCxnSpPr>
          <p:spPr>
            <a:xfrm flipH="1">
              <a:off x="7779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cxnSp>
          <p:nvCxnSpPr>
            <p:cNvPr id="96" name="Straight Arrow Connector 45"/>
            <p:cNvCxnSpPr>
              <a:stCxn id="87" idx="5"/>
              <a:endCxn id="97" idx="1"/>
            </p:cNvCxnSpPr>
            <p:nvPr/>
          </p:nvCxnSpPr>
          <p:spPr>
            <a:xfrm>
              <a:off x="8355600" y="4908600"/>
              <a:ext cx="424440" cy="568800"/>
            </a:xfrm>
            <a:prstGeom prst="straightConnector1">
              <a:avLst/>
            </a:prstGeom>
            <a:ln w="9360">
              <a:solidFill>
                <a:srgbClr val="b6dcdf"/>
              </a:solidFill>
              <a:miter/>
              <a:tailEnd len="med" type="arrow" w="med"/>
            </a:ln>
          </p:spPr>
        </p:cxnSp>
        <p:sp>
          <p:nvSpPr>
            <p:cNvPr id="77" name="Oval 46"/>
            <p:cNvSpPr/>
            <p:nvPr/>
          </p:nvSpPr>
          <p:spPr>
            <a:xfrm>
              <a:off x="7020000" y="328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78" name="Oval 47"/>
            <p:cNvSpPr/>
            <p:nvPr/>
          </p:nvSpPr>
          <p:spPr>
            <a:xfrm>
              <a:off x="644508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0" name="Oval 48"/>
            <p:cNvSpPr/>
            <p:nvPr/>
          </p:nvSpPr>
          <p:spPr>
            <a:xfrm>
              <a:off x="7596360" y="400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2" name="Oval 49"/>
            <p:cNvSpPr/>
            <p:nvPr/>
          </p:nvSpPr>
          <p:spPr>
            <a:xfrm>
              <a:off x="5868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4" name="Oval 50"/>
            <p:cNvSpPr/>
            <p:nvPr/>
          </p:nvSpPr>
          <p:spPr>
            <a:xfrm>
              <a:off x="7020000" y="4724640"/>
              <a:ext cx="2174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7" name="Oval 51"/>
            <p:cNvSpPr/>
            <p:nvPr/>
          </p:nvSpPr>
          <p:spPr>
            <a:xfrm>
              <a:off x="8172720" y="472464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89" name="Oval 52"/>
            <p:cNvSpPr/>
            <p:nvPr/>
          </p:nvSpPr>
          <p:spPr>
            <a:xfrm>
              <a:off x="529272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6445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4" name="Oval 54"/>
            <p:cNvSpPr/>
            <p:nvPr/>
          </p:nvSpPr>
          <p:spPr>
            <a:xfrm>
              <a:off x="759636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97" name="Oval 55"/>
            <p:cNvSpPr/>
            <p:nvPr/>
          </p:nvSpPr>
          <p:spPr>
            <a:xfrm>
              <a:off x="8749080" y="5445360"/>
              <a:ext cx="215640" cy="21564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Floyd-Warshallov algorit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finirajmo si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proble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dolžina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ki se med tema točkama sprehaja le po točkah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, po ostalih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obni prime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Očitno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) kar enaka dolžini povezave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oz. je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Gled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: mogoče najkrajša taka pot gre skoz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mogoče pa n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e, je to kar ena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pa gre skoz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je do tam pot dolg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d tam naprej p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koncu imamo 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dolžino najkrajše poti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splo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01560" indent="-2314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je kakš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&lt; 0, vemo, da obstajajo v grafu negativni cikli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in so naši rezultati bolj ali manj numerično nesmiselni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pišimo ga s psevdokod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0] = dolžina povezave od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d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(oz.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če take povezave ni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]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računamo vrednost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, ∙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potrebujemo l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∙ , ∙ 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 prejšnje pa lahko pozab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Še več, dovolj je že, če imamo eno samo matriko: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j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= min{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deterministični končni avtomat, sestavi nek regularni izraz, ki opisuje isti jezik kot ta končni avtoma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je v bistvu graf s črkami na povezava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Stanja avtomata so točke grafa; eno od stanj je “začetno”, nekatera stanja so “končna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Avtomat “sprejme” niz znakov, če obstaja v njem od začetnega do enega od končnih stanj taka pot, na kateri črke povezav tvorijo ravno ta niz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številčimo stanja in si zastavimo podproblem: 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regularni izraz za jezik vseh tistih nizov, ki naš avtomat pripeljejo od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do stanj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pri tem gredo le skozi stanja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?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tem imamo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k – 1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*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n na koncu za jezik celotnega avtomata, če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q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ačetno stanje in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 množica indeksov končnih stanj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| … |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E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delitev na podzaporedja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z najmanjšo vsot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isarj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s CERC 1998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zapored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s p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m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vi bo prepisal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drug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, tretji naslednj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in tako naprej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as, ki ga nek pisar porabi za svoje delo, je sorazmeren skupnemu številu strani v knjigah, ki jih mora prepisat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si začnejo pisati istočasno, vsi delajo enako hitr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ako razdeliti knjige med pisarje, da bo vse končano čim prej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določ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ako, da bo največje število strani (po vseh pisarjih) čim manjš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Seveda ob omejitv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kupno število strani, ki jih mora prepisati pisar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z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cimo, da si nekako izberem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liko knjig bomo dali zadnjemu pisarju – torej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n bo torej pisal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ne nam vprašanje, kako prv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 razdeliti med preostal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 pisarjev in koliko časa bo v tem primeru pisal najbolj obremenjen pisar med njim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ako smo dobili podproblem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čas, ki ga porabi najbolj obremenjeni pisar, če delimo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med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isarj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zadnji pisar, torej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dobi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knjig, porabi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časa,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ostali pisarji pa za ostale knjige v tem primeru porabij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 čas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rej j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= min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0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max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… +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}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5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Implementacija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Kot ponavadi pri dinamičnem programiranju vidimo, da j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sicer definirana rekurzivno, vendar bi pri rekurziji velikokrat obravnavali ene in iste podprobleme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Že izračunane rezultate hranimo v tabeli, lahko jih tudi računamo sistematično po naraščajoč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1] = 0;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1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1]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2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0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1 t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0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r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         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 := min(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and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idimo tudi, da ko končamo z računanj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pozabimo vse rezultate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[.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], ker jih ne bomo več potreboval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81160" indent="-2811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imogrede, to nalogo lahko rešimo tudi brez dinamičnega programiranj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prašajmo se: ali je mogoče razdeliti knjige tako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 noben pisar ne dobi več kot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strani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ajmo prvemu pisarju toliko prvih knjig, kolikor je le mogoče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to dajmo drugemu pisarju toliko nadaljnjih knjig,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kolikor je le mogoče, preden bi presegle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stran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td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nam zmanjka knjig prej kot pisarjev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je razpored z omejitvij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mogoč, sicer pa n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manjši možn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iščimo z bisekcij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0/1 nahrbtnik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hrbtni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predmetov z masa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in vrednostmi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 nahrbtnik bi radi naložili nekaj predmetov in to tako, da bo vsota vrednosti čim večja, vsota mas pa ne bo presegl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mejimo se na primere, ko so mas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n kapaciteta nahrbtnik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cela števila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Množenje matrik, oklepajski izrazi, delitev zemljišča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i razmislek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redmet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lahko naložimo ali pa tudi n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ga ne naložimo, nam ostane problem z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 predmeti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in s kapaciteto nahrbtnika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Definirajmo torej podproblem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največja vrednost, ki jo lahko zložimo v nahrbtnik,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če ima le-ta kapaciteto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in če lahko uporabimo le prvih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predmetov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Velja torej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= max{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o lahko računamo sistematično po naraščajoči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Ko izračunamo vse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, .), lahko vrednosti 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16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6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 – 1, .) pozabimo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Ta postopek ni primeren, če mase niso cela števila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Garamond"/>
              </a:rPr>
              <a:t>Mogoče jih lahko damo na skupni imenoval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stopek je tudi neučinkovit, če so mase (in kapacite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velike: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res učinkovite rešitve za problem nahrbtnika ne poznamo, saj je NP-teža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Možnih je 2</a:t>
            </a:r>
            <a:r>
              <a:rPr b="0" i="1" lang="sl-SI" sz="14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1400" spc="-1" strike="noStrike">
                <a:solidFill>
                  <a:srgbClr val="000000"/>
                </a:solidFill>
                <a:latin typeface="Garamond"/>
              </a:rPr>
              <a:t> kombinacij predmetov in če imamo smolo, ima vsaka kombinacija drugačno maso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dob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Vračilo denarja: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žne vrednosti kovancev s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S čim manj kovanci sestavi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Primer: kovanci 50, 20, 1, znesek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= 60;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bolje je 20 + 20 + 20 kot 50 + 1 + 1 + … + 1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= min{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, 1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z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}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rugačen problem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hrbtnik, pri katerem lahko predmete poljubno razrežem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(in vzamemo predmet le delno, ne nujno v celoti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Rešitev: jemljemo jih po padajočem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/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dokler nahrbtnik ni pol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Zadnjega od teh predmetov po potrebi razrežem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Dinamično programiranj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Razno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št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 (z IOI 2000)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številski premici stoj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asi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…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zmed teh vas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bi radi postavili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vsoto razdalj od vsake vasi do najbližje pošt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74320" indent="-27432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najbol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zadnja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a) pošta stati v zadnji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) vas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vsa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1 d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Če bi postavili 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-vo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pošto n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poglejmo, katerim vasem </a:t>
            </a:r>
            <a:br>
              <a:rPr sz="1800"/>
            </a:b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zmed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+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bo najbližja pošt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katerim pa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indent="-1828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[vsoto njihovih oddaljenosti od najbližje pošte] + 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– 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vzamemo minimum tega po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najboljša rešitev z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r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ošt in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vasi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zadnja pošta stoji v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-ti vasi: 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p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=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 baseline="30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|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594360" indent="-22860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loga sprašuje po ma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Trikotnik števil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4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an je trikotnik števil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, 1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ačnemo v vrhu,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 vsakem koraku se premaknemo dol in levo/desno, z </a:t>
            </a:r>
            <a:br>
              <a:rPr sz="2400"/>
            </a:b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 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ali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o pridemo na dno, se ustavim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Maksimiziraj vsoto tako obiskanih števil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najboljša vsota, če pot začnemo p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tem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max{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osebne ponudbe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z IOI 1995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Trgovina prodaj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vrst izdelkov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po cen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adi bi kupili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s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5 izdelkov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e vrst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Obstaja do 100 posebnih ponudb: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-ta med njimi je „komplet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ti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po vseh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lahko dobimo za cen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najcenejši nakup natank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izdelkov vrst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 kandidati so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c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&gt; 0] ipd. za druge tip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1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[če so vsi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k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rni in beli trikotnik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loga (s SWERC 1997)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Enakostranični trikotnik s stranic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razdelimo n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akostraničnih trikotnikov s stranico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akega od njih pobarvamo črno ali bel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oišči največji enobarvni trikotni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velikost enobarvnega trikotnika z vrh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in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tistega z dnom v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)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982800" indent="-19656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1 + min{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)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g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},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če so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△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n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 – 1, 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iste barve kot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▽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j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aznašalca paketo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loga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Dano je zaporedje točk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y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, i =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o točko mora obiskati eden od dveh raznašalcev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Vsak raznašalec obiskuje točke po naraščajočih indeksi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Minimiziraj skupno dolžino poti obe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šitev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) = imamo le prvi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, točk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bišče prvi raznašalec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čk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+ 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pa drug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točka, iz katere je drugi šel v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+ 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18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…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1800" spc="-1" strike="noStrike" baseline="-25000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85760" indent="-217080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Vzemimo minimum po vseh </a:t>
            </a:r>
            <a:r>
              <a:rPr b="0" i="1" lang="sl-SI" sz="1800" spc="-1" strike="noStrike">
                <a:solidFill>
                  <a:srgbClr val="000000"/>
                </a:solidFill>
                <a:latin typeface="Garamond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oseben primer: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= 0 naj pomeni, da vseh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točk obišče prv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Naloge s codeforces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-tree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1"/>
              </a:rPr>
              <a:t>https://codeforces.com/problemset/problem/431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 koliko načinov lahko izrazi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vsoto celih števil iz {1, …,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}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pri čemer mora biti vsaj en seštevanec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d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laying Piano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2"/>
              </a:rPr>
              <a:t>https://codeforces.com/problemset/problem/1032/C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ščemo zaporedje števil iz {1, …, 5} z omejitvami oblike </a:t>
            </a:r>
            <a:br>
              <a:rPr sz="2000"/>
            </a:b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&gt;, &lt;}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 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Garamond"/>
              </a:rPr>
              <a:t>+ 1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Shaass and Bookshelf </a:t>
            </a:r>
            <a:r>
              <a:rPr b="0" lang="sl-SI" sz="2400" spc="-1" strike="noStrike" u="sng">
                <a:solidFill>
                  <a:srgbClr val="ff0000"/>
                </a:solidFill>
                <a:uFillTx/>
                <a:latin typeface="Garamond"/>
                <a:hlinkClick r:id="rId3"/>
              </a:rPr>
              <a:t>https://codeforces.com/problemset/problem/294/B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mamo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njig debel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t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{1, 2} in širine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w</a:t>
            </a:r>
            <a:r>
              <a:rPr b="0" i="1" lang="sl-SI" sz="20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Izberi neko podmnožico tako, da bo vsota njihovih debelin čim manjša, vendar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od vsote širin ostalih knji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ahko rešujemo kot nahrbtnik ali pa brez DP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Ena od nalog z južnoameriškega regijskega tekmovanja ACM 2005 (malo oklešče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Imamo podolgovato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zemljišče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široko 1 enoto in dolg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Radi bi ga z navpičnimi črtami razdelili na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zemljišč, dolgih po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8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enot (v tem vrstnem redu)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sakič ko razrežemo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na zemljišče dolžine a in zemljišče dolžine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800"/>
            </a:b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moramo plačati max(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800" spc="-1" strike="noStrike">
                <a:solidFill>
                  <a:srgbClr val="000000"/>
                </a:solidFill>
                <a:latin typeface="Garamond"/>
              </a:rPr>
              <a:t>b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) denarnih enot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davka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V kakšnem </a:t>
            </a:r>
            <a:r>
              <a:rPr b="0" lang="sl-SI" sz="2800" spc="-1" strike="noStrike">
                <a:solidFill>
                  <a:srgbClr val="ff0000"/>
                </a:solidFill>
                <a:latin typeface="Garamond"/>
              </a:rPr>
              <a:t>vrstnem redu</a:t>
            </a:r>
            <a:r>
              <a:rPr b="0" lang="sl-SI" sz="2800" spc="-1" strike="noStrike">
                <a:solidFill>
                  <a:srgbClr val="000000"/>
                </a:solidFill>
                <a:latin typeface="Garamond"/>
              </a:rPr>
              <a:t> naj režemo zemljišče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5508720" y="1557360"/>
            <a:ext cx="1439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813800" y="155736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237440" y="1557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948360" y="1557360"/>
            <a:ext cx="289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imer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125892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1258920" y="3357720"/>
            <a:ext cx="23050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9" name="Rectangle 30"/>
          <p:cNvSpPr/>
          <p:nvPr/>
        </p:nvSpPr>
        <p:spPr>
          <a:xfrm>
            <a:off x="3564000" y="335772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Rectangle 32"/>
          <p:cNvSpPr/>
          <p:nvPr/>
        </p:nvSpPr>
        <p:spPr>
          <a:xfrm>
            <a:off x="1258920" y="4149720"/>
            <a:ext cx="172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356400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Rectangle 34"/>
          <p:cNvSpPr/>
          <p:nvPr/>
        </p:nvSpPr>
        <p:spPr>
          <a:xfrm>
            <a:off x="2987640" y="414972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3" name="Rectangle 35"/>
          <p:cNvSpPr/>
          <p:nvPr/>
        </p:nvSpPr>
        <p:spPr>
          <a:xfrm>
            <a:off x="1258920" y="501336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Rectangle 36"/>
          <p:cNvSpPr/>
          <p:nvPr/>
        </p:nvSpPr>
        <p:spPr>
          <a:xfrm>
            <a:off x="3564000" y="5013360"/>
            <a:ext cx="86364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Rectangle 37"/>
          <p:cNvSpPr/>
          <p:nvPr/>
        </p:nvSpPr>
        <p:spPr>
          <a:xfrm>
            <a:off x="2987640" y="5013360"/>
            <a:ext cx="576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Rectangle 38"/>
          <p:cNvSpPr/>
          <p:nvPr/>
        </p:nvSpPr>
        <p:spPr>
          <a:xfrm>
            <a:off x="2698920" y="5013360"/>
            <a:ext cx="28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Rectangle 40"/>
          <p:cNvSpPr/>
          <p:nvPr/>
        </p:nvSpPr>
        <p:spPr>
          <a:xfrm>
            <a:off x="4643280" y="2494080"/>
            <a:ext cx="316872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Rectangle 41"/>
          <p:cNvSpPr/>
          <p:nvPr/>
        </p:nvSpPr>
        <p:spPr>
          <a:xfrm>
            <a:off x="4643280" y="3357720"/>
            <a:ext cx="1440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Rectangle 42"/>
          <p:cNvSpPr/>
          <p:nvPr/>
        </p:nvSpPr>
        <p:spPr>
          <a:xfrm>
            <a:off x="6083280" y="3357720"/>
            <a:ext cx="172872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Rectangle 43"/>
          <p:cNvSpPr/>
          <p:nvPr/>
        </p:nvSpPr>
        <p:spPr>
          <a:xfrm>
            <a:off x="6948360" y="414972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Rectangle 44"/>
          <p:cNvSpPr/>
          <p:nvPr/>
        </p:nvSpPr>
        <p:spPr>
          <a:xfrm>
            <a:off x="4643280" y="414972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Rectangle 45"/>
          <p:cNvSpPr/>
          <p:nvPr/>
        </p:nvSpPr>
        <p:spPr>
          <a:xfrm>
            <a:off x="6083280" y="4149720"/>
            <a:ext cx="86364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Rectangle 47"/>
          <p:cNvSpPr/>
          <p:nvPr/>
        </p:nvSpPr>
        <p:spPr>
          <a:xfrm>
            <a:off x="6948360" y="5013360"/>
            <a:ext cx="863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Rectangle 48"/>
          <p:cNvSpPr/>
          <p:nvPr/>
        </p:nvSpPr>
        <p:spPr>
          <a:xfrm>
            <a:off x="4643280" y="5013360"/>
            <a:ext cx="14414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Rectangle 49"/>
          <p:cNvSpPr/>
          <p:nvPr/>
        </p:nvSpPr>
        <p:spPr>
          <a:xfrm>
            <a:off x="6083280" y="5013360"/>
            <a:ext cx="289080" cy="28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Rectangle 50"/>
          <p:cNvSpPr/>
          <p:nvPr/>
        </p:nvSpPr>
        <p:spPr>
          <a:xfrm>
            <a:off x="6372360" y="5013360"/>
            <a:ext cx="57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Text Box 52"/>
          <p:cNvSpPr/>
          <p:nvPr/>
        </p:nvSpPr>
        <p:spPr>
          <a:xfrm>
            <a:off x="125892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8 + 3 (davek: 8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Text Box 53"/>
          <p:cNvSpPr/>
          <p:nvPr/>
        </p:nvSpPr>
        <p:spPr>
          <a:xfrm>
            <a:off x="4643280" y="2852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11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6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9" name="Text Box 54"/>
          <p:cNvSpPr/>
          <p:nvPr/>
        </p:nvSpPr>
        <p:spPr>
          <a:xfrm>
            <a:off x="125892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8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6 + 2 (davek: 6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Text Box 55"/>
          <p:cNvSpPr/>
          <p:nvPr/>
        </p:nvSpPr>
        <p:spPr>
          <a:xfrm>
            <a:off x="4643280" y="3718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3 + 3 (davek: 3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Text Box 58"/>
          <p:cNvSpPr/>
          <p:nvPr/>
        </p:nvSpPr>
        <p:spPr>
          <a:xfrm>
            <a:off x="125892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6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5 + 1 (davek: 5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Text Box 59"/>
          <p:cNvSpPr/>
          <p:nvPr/>
        </p:nvSpPr>
        <p:spPr>
          <a:xfrm>
            <a:off x="4643280" y="451008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3 </a:t>
            </a:r>
            <a:r>
              <a:rPr b="0" lang="sl-SI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 2 + 1 (davek: 2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Text Box 60"/>
          <p:cNvSpPr/>
          <p:nvPr/>
        </p:nvSpPr>
        <p:spPr>
          <a:xfrm>
            <a:off x="125892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9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4" name="Text Box 61"/>
          <p:cNvSpPr/>
          <p:nvPr/>
        </p:nvSpPr>
        <p:spPr>
          <a:xfrm>
            <a:off x="4643280" y="544500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Garamond"/>
              </a:rPr>
              <a:t>(davek skupaj: 11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4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5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1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2, </a:t>
            </a:r>
            <a:r>
              <a:rPr b="0" i="1" lang="sl-SI" sz="32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sl-SI" sz="3200" spc="-1" strike="noStrike">
                <a:solidFill>
                  <a:srgbClr val="000000"/>
                </a:solidFill>
                <a:latin typeface="Garamond"/>
              </a:rPr>
              <a:t> = 3.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Problem in podproblemi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š prvi rez razreže zemljišče na dva kosa.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Recimo, da je levi kos širok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esni pa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enot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Zdaj je, kar je; davek bomo plačali; potem pa nam preostane le še to, da vsakega od teh dveh kosov posebej razrežemo čim cenej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Levi kos nič ne vpliva na desnega in obratno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Torej je vsak od njiju sam zase pravzaprav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čisto enak problem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kot prvotni, le da je malo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manjši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: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namesto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zemljišč bi radi delili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levem kosu)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oz. na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0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 (pri desnem kosu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Ker pa vnaprej ne vemo, kateri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bo pripeljal do najcenejše rešitve, moramo pač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reizkusiti vs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Problem smo razbili na podprobleme, ki so mu v vseh pogledih enaki (le da so manjši), tako da se ga je pametno lotiti z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rekurzij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obni primer — ni česa rezati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lahko, da je zaporedje, ki ga prenašamo kot parameter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edno nek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dzaporedje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rvotnega 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Zato je v praksi dovolj, če povemo le </a:t>
            </a:r>
            <a:r>
              <a:rPr b="0" lang="sl-SI" sz="2000" spc="-1" strike="noStrike">
                <a:solidFill>
                  <a:srgbClr val="ff0000"/>
                </a:solidFill>
                <a:latin typeface="Garamond"/>
              </a:rPr>
              <a:t>začetni in končni indeks</a:t>
            </a: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Garamond"/>
              </a:rPr>
              <a:t>celotno zaporedje pa hranimo v neki globalni spremenljivki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unctio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rešuje podzaporedje (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 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i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...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 baseline="-25000">
                <a:solidFill>
                  <a:srgbClr val="0070c0"/>
                </a:solidFill>
                <a:latin typeface="Garamond"/>
              </a:rPr>
              <a:t>–1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70c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70c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0;   </a:t>
            </a:r>
            <a:r>
              <a:rPr b="0" lang="en-US" sz="2400" spc="-1" strike="noStrike">
                <a:solidFill>
                  <a:srgbClr val="0070c0"/>
                </a:solidFill>
                <a:latin typeface="Garamond"/>
              </a:rPr>
              <a:t>//</a:t>
            </a:r>
            <a:r>
              <a:rPr b="0" lang="sl-SI" sz="2400" spc="-1" strike="noStrike">
                <a:solidFill>
                  <a:srgbClr val="0070c0"/>
                </a:solidFill>
                <a:latin typeface="Garamond"/>
              </a:rPr>
              <a:t> ni česa rezati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for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o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d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max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+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if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&lt;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the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1" lang="sl-SI" sz="2400" spc="-1" strike="noStrike">
                <a:solidFill>
                  <a:srgbClr val="000000"/>
                </a:solidFill>
                <a:latin typeface="Garamond"/>
              </a:rPr>
              <a:t>retur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inCena 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Žal je ta rešitev časovno precej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potratna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Rekurzivna rešitev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Garamond"/>
              </a:rPr>
              <a:t>Časovna zahtevnos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j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:=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j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1 dolžina opazovanega podzaporedja,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bo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Reši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poklicala po dva klica za podzaporedja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dolžine 1, 2, ...,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– 1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j b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število klicev za podzaporedja dolžine </a:t>
            </a:r>
            <a:r>
              <a:rPr b="0" i="1" lang="sl-SI" sz="2400" spc="-1" strike="noStrike">
                <a:solidFill>
                  <a:srgbClr val="00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 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idimo torej, da je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 (glavni klic),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nato pa                 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1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m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+2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+ ... + 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)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) = 6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3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2(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) = 2(1 + 2 + 6) = 18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4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54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5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162,   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6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486, ..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Če malo potelovadimo z rodovnimi funkcijami, vidimo: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Garamond"/>
              </a:rPr>
              <a:t> – </a:t>
            </a:r>
            <a:r>
              <a:rPr b="0" i="1" lang="sl-SI" sz="2400" spc="-1" strike="noStrike" baseline="-25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= 2 </a:t>
            </a:r>
            <a:r>
              <a:rPr b="0" lang="sl-SI" sz="24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 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k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Vseh klicev skupaj bo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i="1" lang="sl-SI" sz="2400" spc="-1" strike="noStrike" baseline="-25000">
                <a:solidFill>
                  <a:srgbClr val="000000"/>
                </a:solidFill>
                <a:latin typeface="Garamond"/>
              </a:rPr>
              <a:t>n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 – 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...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+ #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 = ravno </a:t>
            </a:r>
            <a:r>
              <a:rPr b="0" lang="sl-SI" sz="2400" spc="-1" strike="noStrike">
                <a:solidFill>
                  <a:srgbClr val="ff0000"/>
                </a:solidFill>
                <a:latin typeface="Garamond"/>
              </a:rPr>
              <a:t>3</a:t>
            </a:r>
            <a:r>
              <a:rPr b="0" i="1" lang="sl-SI" sz="2400" spc="-1" strike="noStrike" baseline="30000">
                <a:solidFill>
                  <a:srgbClr val="ff0000"/>
                </a:solidFill>
                <a:latin typeface="Garamond"/>
              </a:rPr>
              <a:t>n</a:t>
            </a:r>
            <a:r>
              <a:rPr b="0" lang="sl-SI" sz="2400" spc="-1" strike="noStrike" baseline="30000">
                <a:solidFill>
                  <a:srgbClr val="ff0000"/>
                </a:solidFill>
                <a:latin typeface="Garamond"/>
              </a:rPr>
              <a:t> – 1</a:t>
            </a:r>
            <a:r>
              <a:rPr b="0" lang="sl-SI" sz="24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5:09:15Z</dcterms:created>
  <dc:creator>Janez Brank</dc:creator>
  <dc:description/>
  <dc:language>en-US</dc:language>
  <cp:lastModifiedBy>Janez Brank</cp:lastModifiedBy>
  <dcterms:modified xsi:type="dcterms:W3CDTF">2022-12-06T08:35:24Z</dcterms:modified>
  <cp:revision>298</cp:revision>
  <dc:subject/>
  <dc:title>Dinamično programiranje</dc:title>
</cp:coreProperties>
</file>