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1E71-3BC4-4325-A7AF-BADD1C994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D591-0958-4F74-94A8-3815A837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9CE3-ABA5-4A04-9D6A-5B73F126C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D64F-4442-4433-9DBF-7454751FA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D9FF-F66E-4A6D-A1FD-30B24D81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3EA9-A954-4412-9A50-B9EECB71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26A7-59FC-4175-BC4A-44C2047B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BD7B-EB83-4FB1-8C50-DF006F4D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FABE-29C2-4BBA-A2BB-AC51876E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B1E2-C082-4A93-BD91-43637AAB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96F4-DBEB-4FBF-AACC-758D3A74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CF28-FF3F-4F98-BCAF-EE64533A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4F18-87EA-4A98-A858-889885F13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codeforces.com/problemset/problem/431/C" TargetMode="External"/><Relationship Id="rId2" Type="http://schemas.openxmlformats.org/officeDocument/2006/relationships/hyperlink" Target="https://codeforces.com/problemset/problem/1032/C" TargetMode="External"/><Relationship Id="rId3" Type="http://schemas.openxmlformats.org/officeDocument/2006/relationships/hyperlink" Target="https://codeforces.com/problemset/problem/294/B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Janez Bran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Časovna zahtevnos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Če malo potelovadimo z rodovnimi funkcijami, vidimo: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2 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3</a:t>
            </a:r>
            <a:r>
              <a:rPr b="0" i="1" lang="sl-SI" sz="2800" spc="-1" strike="noStrike" baseline="30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 baseline="30000">
                <a:solidFill>
                  <a:srgbClr val="000000"/>
                </a:solidFill>
                <a:latin typeface="Garamond"/>
              </a:rPr>
              <a:t> – 1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rej 2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3</a:t>
            </a:r>
            <a:r>
              <a:rPr b="0" i="1" lang="sl-SI" sz="2400" spc="-1" strike="noStrike" baseline="30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klicev za podzaporedja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da zaporedje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ma </a:t>
            </a:r>
            <a:br>
              <a:rPr sz="2400"/>
            </a:b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samo </a:t>
            </a:r>
            <a:r>
              <a:rPr b="0" i="1" lang="sl-SI" sz="2400" spc="-1" strike="noStrike">
                <a:solidFill>
                  <a:srgbClr val="ff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+ 1 podzapored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rej očitno veliko teh klicev po večkrat obdeluje </a:t>
            </a:r>
            <a:br>
              <a:rPr sz="2400"/>
            </a:b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ena in ista podzaporedj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Ideja: ko prvič obdelamo neko podzaporedje,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si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shranimo rezultat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v neko tabelo. 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b kasnejših klicih ga poberemo od tam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in ga ni treba ponovno računati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i klic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3924360" y="1197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042920" y="119700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1116000" y="1700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340000" y="1989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4716360" y="191628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6588000" y="177336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6877080" y="1268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0" y="1844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0" y="2276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1332000" y="2349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2411280" y="328464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1332000" y="2997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2916360" y="2708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183528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298764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108000" y="3284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395280" y="3716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8007480" y="1773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8007480" y="2205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4140360" y="2637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6877080" y="2492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5867280" y="278136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4859280" y="328464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428472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Text Box 29"/>
          <p:cNvSpPr/>
          <p:nvPr/>
        </p:nvSpPr>
        <p:spPr>
          <a:xfrm>
            <a:off x="529272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Text Box 30"/>
          <p:cNvSpPr/>
          <p:nvPr/>
        </p:nvSpPr>
        <p:spPr>
          <a:xfrm>
            <a:off x="6732720" y="3284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3" name="Text Box 31"/>
          <p:cNvSpPr/>
          <p:nvPr/>
        </p:nvSpPr>
        <p:spPr>
          <a:xfrm>
            <a:off x="6300720" y="364500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Line 32"/>
          <p:cNvSpPr/>
          <p:nvPr/>
        </p:nvSpPr>
        <p:spPr>
          <a:xfrm flipH="1">
            <a:off x="2123640" y="141300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Line 33"/>
          <p:cNvSpPr/>
          <p:nvPr/>
        </p:nvSpPr>
        <p:spPr>
          <a:xfrm>
            <a:off x="5003640" y="141300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Line 34"/>
          <p:cNvSpPr/>
          <p:nvPr/>
        </p:nvSpPr>
        <p:spPr>
          <a:xfrm>
            <a:off x="4932360" y="1484280"/>
            <a:ext cx="172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Line 35"/>
          <p:cNvSpPr/>
          <p:nvPr/>
        </p:nvSpPr>
        <p:spPr>
          <a:xfrm>
            <a:off x="7667640" y="1989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Line 36"/>
          <p:cNvSpPr/>
          <p:nvPr/>
        </p:nvSpPr>
        <p:spPr>
          <a:xfrm>
            <a:off x="7596360" y="213372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Line 37"/>
          <p:cNvSpPr/>
          <p:nvPr/>
        </p:nvSpPr>
        <p:spPr>
          <a:xfrm>
            <a:off x="4643280" y="155736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Line 38"/>
          <p:cNvSpPr/>
          <p:nvPr/>
        </p:nvSpPr>
        <p:spPr>
          <a:xfrm flipH="1">
            <a:off x="4716000" y="227664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1" name="Line 39"/>
          <p:cNvSpPr/>
          <p:nvPr/>
        </p:nvSpPr>
        <p:spPr>
          <a:xfrm>
            <a:off x="5364000" y="2276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Line 40"/>
          <p:cNvSpPr/>
          <p:nvPr/>
        </p:nvSpPr>
        <p:spPr>
          <a:xfrm>
            <a:off x="5508720" y="2276640"/>
            <a:ext cx="718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Line 41"/>
          <p:cNvSpPr/>
          <p:nvPr/>
        </p:nvSpPr>
        <p:spPr>
          <a:xfrm>
            <a:off x="5651640" y="2276640"/>
            <a:ext cx="129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Line 42"/>
          <p:cNvSpPr/>
          <p:nvPr/>
        </p:nvSpPr>
        <p:spPr>
          <a:xfrm>
            <a:off x="6227640" y="3141720"/>
            <a:ext cx="289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Line 43"/>
          <p:cNvSpPr/>
          <p:nvPr/>
        </p:nvSpPr>
        <p:spPr>
          <a:xfrm>
            <a:off x="6516720" y="314172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Line 44"/>
          <p:cNvSpPr/>
          <p:nvPr/>
        </p:nvSpPr>
        <p:spPr>
          <a:xfrm flipH="1">
            <a:off x="4932000" y="364500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Line 45"/>
          <p:cNvSpPr/>
          <p:nvPr/>
        </p:nvSpPr>
        <p:spPr>
          <a:xfrm>
            <a:off x="5364000" y="3645000"/>
            <a:ext cx="287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8" name="Line 46"/>
          <p:cNvSpPr/>
          <p:nvPr/>
        </p:nvSpPr>
        <p:spPr>
          <a:xfrm flipH="1">
            <a:off x="3347640" y="148428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Line 47"/>
          <p:cNvSpPr/>
          <p:nvPr/>
        </p:nvSpPr>
        <p:spPr>
          <a:xfrm flipH="1">
            <a:off x="2340000" y="2349360"/>
            <a:ext cx="2872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Line 48"/>
          <p:cNvSpPr/>
          <p:nvPr/>
        </p:nvSpPr>
        <p:spPr>
          <a:xfrm flipH="1">
            <a:off x="2050920" y="2349360"/>
            <a:ext cx="7207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Line 49"/>
          <p:cNvSpPr/>
          <p:nvPr/>
        </p:nvSpPr>
        <p:spPr>
          <a:xfrm flipH="1">
            <a:off x="2842920" y="2421000"/>
            <a:ext cx="73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Line 50"/>
          <p:cNvSpPr/>
          <p:nvPr/>
        </p:nvSpPr>
        <p:spPr>
          <a:xfrm>
            <a:off x="3059280" y="234936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Line 51"/>
          <p:cNvSpPr/>
          <p:nvPr/>
        </p:nvSpPr>
        <p:spPr>
          <a:xfrm flipH="1">
            <a:off x="2411280" y="3573360"/>
            <a:ext cx="43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Line 52"/>
          <p:cNvSpPr/>
          <p:nvPr/>
        </p:nvSpPr>
        <p:spPr>
          <a:xfrm>
            <a:off x="2916360" y="357336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Line 53"/>
          <p:cNvSpPr/>
          <p:nvPr/>
        </p:nvSpPr>
        <p:spPr>
          <a:xfrm flipH="1">
            <a:off x="1115640" y="3284640"/>
            <a:ext cx="360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Line 54"/>
          <p:cNvSpPr/>
          <p:nvPr/>
        </p:nvSpPr>
        <p:spPr>
          <a:xfrm flipH="1">
            <a:off x="1116000" y="3284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Line 55"/>
          <p:cNvSpPr/>
          <p:nvPr/>
        </p:nvSpPr>
        <p:spPr>
          <a:xfrm flipH="1">
            <a:off x="1042920" y="1916280"/>
            <a:ext cx="21600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Line 56"/>
          <p:cNvSpPr/>
          <p:nvPr/>
        </p:nvSpPr>
        <p:spPr>
          <a:xfrm flipH="1">
            <a:off x="971280" y="198900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Line 57"/>
          <p:cNvSpPr/>
          <p:nvPr/>
        </p:nvSpPr>
        <p:spPr>
          <a:xfrm flipH="1">
            <a:off x="2124000" y="1484280"/>
            <a:ext cx="194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Memoizacija (pomnjenje)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i := 1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do for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d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 := –1;    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//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inicializacija tabele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   </a:t>
            </a:r>
            <a:r>
              <a:rPr b="0" lang="en-US" sz="20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 rešuje podzaporedje (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i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70c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, ..., 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70c0"/>
                </a:solidFill>
                <a:latin typeface="Garamond"/>
              </a:rPr>
              <a:t>–1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)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0;  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 ni česa rezat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if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 </a:t>
            </a:r>
            <a:r>
              <a:rPr b="0" lang="sl-SI" sz="2000" spc="-1" strike="noStrike">
                <a:solidFill>
                  <a:srgbClr val="ff0000"/>
                </a:solidFill>
                <a:latin typeface="Symbol"/>
                <a:ea typeface="Symbol"/>
              </a:rPr>
              <a:t>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0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the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retur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;  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//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rešitev že poznamo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ena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 :=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porabi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konstantn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mnogo časa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azen če se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rvič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rečuje s parom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akrat pa porab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časa, če odmislimo čas za izvajanje rekurzivnih klicev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Skupaj imamo torej časovno zahtevnost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=1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[št. zaporedij dolžine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[čas obdelave zaporedja dolžine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=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=1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)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3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2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/6 =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000" spc="-1" strike="noStrike" baseline="30000">
                <a:solidFill>
                  <a:srgbClr val="ff0000"/>
                </a:solidFill>
                <a:latin typeface="Garamond"/>
              </a:rPr>
              <a:t>3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 s prejšnje folije je v bistvu že dinamično programiranje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Lahko pa smo še bolj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sistematičn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o se izvajajo naši rekurzivni klici, bomo prej ali slej izračunali rešitev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za vse pare 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1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reden lahko izračunam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trebujemo vs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z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Tabel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] lahko torej polnimo čisto sistematično, </a:t>
            </a:r>
            <a:br>
              <a:rPr sz="2800"/>
            </a:b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od krajših podzaporedij proti daljšim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 nam zagotavlja, da bomo imeli vedno pri roki rešitve podproblemov, ki jih bomo potrebovali za trenutni problem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:= 0;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ni česa rezati </a:t>
            </a:r>
            <a:br>
              <a:rPr sz="2400"/>
            </a:b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2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 begin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;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:=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en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 </a:t>
            </a:r>
            <a:br>
              <a:rPr sz="2400"/>
            </a:b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 je še vedn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tako kot prejšnja rešitev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Bi pa znala biti v praksi malo hitrejša, ker je zdaj manj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verheada z rekurzivnimi klici, knjigovodstvom ipd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cep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 našem problemu opazim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dproblem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ki so istega tipa kot glavni problem, le da so manjši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 primer: problem je zaporedje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,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dproblemi so podzaporedja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 bistvu si lahko mislimo, da smo problem malo posplošili.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časih je treba biti malo zvit, da opaziš primerno posplošitev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ešitev problema znamo izračunati iz rešitev podproblemov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dproblemi imajo spet svoje podpodrobleme, itd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pazimo, da se začnejo podpodproblemi, podpodpodproblemi, itd.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navljat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to pazimo, da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ne računamo istega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dpod...problema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 večkrat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šitev podpod...problema si zapomnimo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er bo prišla prav še kasneje (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memoizacij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pa tudi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sistematičn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bdelamo vse podpod...probleme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d manjših proti večjim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si tudi zapomnimo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ak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mo prišli do rešitve. 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S pomočjo teh podatkov na koncu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rekonstruiramo najboljšo rešitev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npr. to, v kakšnem vrstnem redu moramo rezati zemljišče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Težav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Če se podpod...problemi ne ponavljajo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oz. če pač obstaja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eksponentno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mnogo različnih podpod...problemov, si z dinamičnim programiranjem pač ne moremo pomagati do polinomske rešitve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Če je podpod...problemov polinomsko mnogo, jih je lahko še vseeno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preveč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da bi hranili vse njihove rešitve v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pomnilniku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dvisno seveda od tega, s kakšnim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mamo opravka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časih se da rešitve majhnih pod...problemov sproti pozabljati (npr. če je podproblem velik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odvisen le od podproblemov velik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, ne pa od tistih velik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2 in manjših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Še nekaj podobnih problemo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ad bi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zmnožil zaporedje matri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 Kako postaviti oklepaje, da bo skupna cena množenja najmanjša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Dan je izraz 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/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/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/ … /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pri čemer s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neka znana števila.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Postavi oklepaje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v ta izraz tako, da bo imel največjo možno vrednos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IOI 1998) Dan je cikel 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op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op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…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op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. Operatorji so + in ·. Nekje ga prereži, da nastane izraz, in nato postavi oklepaje tako, da bo imel največjo možno vrednos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Floyd-Warshal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Floyd-Warshallov algorit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Dan je graf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{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}, vsaka povezava ima tudi dolžino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Zanimajo nas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dolžine najkrajših pot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med vsemi pari točk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Seveda lahko npr. poženemo Dijkstro po enkrat za vsako možno začetno točko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log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Ali pa Bellman-Forda za vsako možno začetno točk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Ali pa Bellman-Forda z množenjem matrik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log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Floyd-Warshall pa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kar je še posebej lepo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če je graf gos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Uvod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Mnoge optimizacijske probleme lahko rešimo tako, da v problemu opazimo manjše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dproblem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sak podproblem je iste vrste kot prvotni problem, le malo manjši j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Rešimo ga tako, da v njem opazimo še manjše podpodprobleme in tako naprej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Sčasoma pridemo do trivialno majhnih pod…problemov, ki jih znamo rešiti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tev večjega problema znamo izračunati iz rešitev njegovih podproblemov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 dinamičnem programiranju govorimo v primerih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o se podproblemi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navljaj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akrat si je koristno rešitve podproblemov zapomniti,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a jih ne bo treba računati po večkrat (</a:t>
            </a:r>
            <a:r>
              <a:rPr b="0" i="1" lang="sl-SI" sz="1800" spc="-1" strike="noStrike">
                <a:solidFill>
                  <a:srgbClr val="ff0000"/>
                </a:solidFill>
                <a:latin typeface="Garamond"/>
              </a:rPr>
              <a:t>memoizacija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S tem lahko prihranim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ogromn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čas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ogosto lahko rešitve podproblemov računamo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zelo </a:t>
            </a:r>
            <a:r>
              <a:rPr b="0" lang="sl-SI" sz="1800" spc="-1" strike="noStrike">
                <a:solidFill>
                  <a:srgbClr val="ff0000"/>
                </a:solidFill>
                <a:latin typeface="Garamond"/>
              </a:rPr>
              <a:t>sistematičn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od manjših k večji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zziv je ponavadi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paziti, da je naša naloga primerna za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evanje z dinamičnim programiranje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omisliti se, kako razbiti problem na podproblem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Pri tem moramo problem pogosto malo posplošiti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5" name="Group 3"/>
          <p:cNvGrpSpPr/>
          <p:nvPr/>
        </p:nvGrpSpPr>
        <p:grpSpPr>
          <a:xfrm>
            <a:off x="6012000" y="3284640"/>
            <a:ext cx="2232000" cy="2376360"/>
            <a:chOff x="6012000" y="3284640"/>
            <a:chExt cx="2232000" cy="2376360"/>
          </a:xfrm>
        </p:grpSpPr>
        <p:cxnSp>
          <p:nvCxnSpPr>
            <p:cNvPr id="46" name="Straight Arrow Connector 4"/>
            <p:cNvCxnSpPr>
              <a:stCxn id="47" idx="3"/>
              <a:endCxn id="48" idx="7"/>
            </p:cNvCxnSpPr>
            <p:nvPr/>
          </p:nvCxnSpPr>
          <p:spPr>
            <a:xfrm flipH="1">
              <a:off x="6627240" y="346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49" name="Straight Arrow Connector 5"/>
            <p:cNvCxnSpPr>
              <a:stCxn id="47" idx="5"/>
              <a:endCxn id="50" idx="1"/>
            </p:cNvCxnSpPr>
            <p:nvPr/>
          </p:nvCxnSpPr>
          <p:spPr>
            <a:xfrm>
              <a:off x="7203240" y="346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1" name="Straight Arrow Connector 6"/>
            <p:cNvCxnSpPr>
              <a:stCxn id="48" idx="3"/>
              <a:endCxn id="52" idx="0"/>
            </p:cNvCxnSpPr>
            <p:nvPr/>
          </p:nvCxnSpPr>
          <p:spPr>
            <a:xfrm flipH="1">
              <a:off x="6264000" y="4189320"/>
              <a:ext cx="21168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3" name="Straight Arrow Connector 7"/>
            <p:cNvCxnSpPr>
              <a:stCxn id="48" idx="5"/>
              <a:endCxn id="54" idx="0"/>
            </p:cNvCxnSpPr>
            <p:nvPr/>
          </p:nvCxnSpPr>
          <p:spPr>
            <a:xfrm>
              <a:off x="6627960" y="4189320"/>
              <a:ext cx="21312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5" name="Straight Arrow Connector 8"/>
            <p:cNvCxnSpPr>
              <a:stCxn id="50" idx="3"/>
              <a:endCxn id="56" idx="0"/>
            </p:cNvCxnSpPr>
            <p:nvPr/>
          </p:nvCxnSpPr>
          <p:spPr>
            <a:xfrm flipH="1">
              <a:off x="7414920" y="4189320"/>
              <a:ext cx="21312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7" name="Straight Arrow Connector 9"/>
            <p:cNvCxnSpPr>
              <a:stCxn id="50" idx="5"/>
              <a:endCxn id="58" idx="0"/>
            </p:cNvCxnSpPr>
            <p:nvPr/>
          </p:nvCxnSpPr>
          <p:spPr>
            <a:xfrm>
              <a:off x="7780680" y="4189320"/>
              <a:ext cx="21168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9" name="Straight Arrow Connector 10"/>
            <p:cNvCxnSpPr>
              <a:stCxn id="52" idx="3"/>
              <a:endCxn id="60" idx="0"/>
            </p:cNvCxnSpPr>
            <p:nvPr/>
          </p:nvCxnSpPr>
          <p:spPr>
            <a:xfrm flipH="1">
              <a:off x="6118920" y="4908600"/>
              <a:ext cx="6876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1" name="Straight Arrow Connector 11"/>
            <p:cNvCxnSpPr>
              <a:stCxn id="52" idx="6"/>
              <a:endCxn id="62" idx="0"/>
            </p:cNvCxnSpPr>
            <p:nvPr/>
          </p:nvCxnSpPr>
          <p:spPr>
            <a:xfrm>
              <a:off x="6372000" y="4832280"/>
              <a:ext cx="35640" cy="61344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3" name="Straight Arrow Connector 12"/>
            <p:cNvCxnSpPr>
              <a:stCxn id="54" idx="3"/>
              <a:endCxn id="64" idx="0"/>
            </p:cNvCxnSpPr>
            <p:nvPr/>
          </p:nvCxnSpPr>
          <p:spPr>
            <a:xfrm flipH="1">
              <a:off x="669528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5" name="Straight Arrow Connector 13"/>
            <p:cNvCxnSpPr>
              <a:stCxn id="54" idx="5"/>
              <a:endCxn id="66" idx="0"/>
            </p:cNvCxnSpPr>
            <p:nvPr/>
          </p:nvCxnSpPr>
          <p:spPr>
            <a:xfrm>
              <a:off x="691560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7" name="Straight Arrow Connector 14"/>
            <p:cNvCxnSpPr>
              <a:stCxn id="56" idx="3"/>
              <a:endCxn id="68" idx="0"/>
            </p:cNvCxnSpPr>
            <p:nvPr/>
          </p:nvCxnSpPr>
          <p:spPr>
            <a:xfrm flipH="1">
              <a:off x="727164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9" name="Straight Arrow Connector 15"/>
            <p:cNvCxnSpPr>
              <a:stCxn id="56" idx="5"/>
              <a:endCxn id="70" idx="0"/>
            </p:cNvCxnSpPr>
            <p:nvPr/>
          </p:nvCxnSpPr>
          <p:spPr>
            <a:xfrm>
              <a:off x="749196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71" name="Straight Arrow Connector 16"/>
            <p:cNvCxnSpPr>
              <a:stCxn id="58" idx="3"/>
              <a:endCxn id="72" idx="0"/>
            </p:cNvCxnSpPr>
            <p:nvPr/>
          </p:nvCxnSpPr>
          <p:spPr>
            <a:xfrm flipH="1">
              <a:off x="784800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73" name="Straight Arrow Connector 17"/>
            <p:cNvCxnSpPr>
              <a:stCxn id="58" idx="5"/>
              <a:endCxn id="74" idx="0"/>
            </p:cNvCxnSpPr>
            <p:nvPr/>
          </p:nvCxnSpPr>
          <p:spPr>
            <a:xfrm>
              <a:off x="8066880" y="4908600"/>
              <a:ext cx="6876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sp>
          <p:nvSpPr>
            <p:cNvPr id="47" name="Oval 18"/>
            <p:cNvSpPr/>
            <p:nvPr/>
          </p:nvSpPr>
          <p:spPr>
            <a:xfrm>
              <a:off x="7020000" y="328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" name="Oval 19"/>
            <p:cNvSpPr/>
            <p:nvPr/>
          </p:nvSpPr>
          <p:spPr>
            <a:xfrm>
              <a:off x="644364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" name="Oval 20"/>
            <p:cNvSpPr/>
            <p:nvPr/>
          </p:nvSpPr>
          <p:spPr>
            <a:xfrm>
              <a:off x="759636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Oval 21"/>
            <p:cNvSpPr/>
            <p:nvPr/>
          </p:nvSpPr>
          <p:spPr>
            <a:xfrm>
              <a:off x="601200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Oval 22"/>
            <p:cNvSpPr/>
            <p:nvPr/>
          </p:nvSpPr>
          <p:spPr>
            <a:xfrm>
              <a:off x="629928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4" name="Oval 23"/>
            <p:cNvSpPr/>
            <p:nvPr/>
          </p:nvSpPr>
          <p:spPr>
            <a:xfrm>
              <a:off x="658800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6" name="Oval 24"/>
            <p:cNvSpPr/>
            <p:nvPr/>
          </p:nvSpPr>
          <p:spPr>
            <a:xfrm>
              <a:off x="687564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8" name="Oval 25"/>
            <p:cNvSpPr/>
            <p:nvPr/>
          </p:nvSpPr>
          <p:spPr>
            <a:xfrm>
              <a:off x="716436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" name="Oval 26"/>
            <p:cNvSpPr/>
            <p:nvPr/>
          </p:nvSpPr>
          <p:spPr>
            <a:xfrm>
              <a:off x="745200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" name="Oval 27"/>
            <p:cNvSpPr/>
            <p:nvPr/>
          </p:nvSpPr>
          <p:spPr>
            <a:xfrm>
              <a:off x="774072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4" name="Oval 28"/>
            <p:cNvSpPr/>
            <p:nvPr/>
          </p:nvSpPr>
          <p:spPr>
            <a:xfrm>
              <a:off x="802836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" name="Oval 29"/>
            <p:cNvSpPr/>
            <p:nvPr/>
          </p:nvSpPr>
          <p:spPr>
            <a:xfrm>
              <a:off x="615636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" name="Oval 30"/>
            <p:cNvSpPr/>
            <p:nvPr/>
          </p:nvSpPr>
          <p:spPr>
            <a:xfrm>
              <a:off x="673272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6" name="Oval 31"/>
            <p:cNvSpPr/>
            <p:nvPr/>
          </p:nvSpPr>
          <p:spPr>
            <a:xfrm>
              <a:off x="730728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8" name="Oval 32"/>
            <p:cNvSpPr/>
            <p:nvPr/>
          </p:nvSpPr>
          <p:spPr>
            <a:xfrm>
              <a:off x="788364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75" name="Group 33"/>
          <p:cNvGrpSpPr/>
          <p:nvPr/>
        </p:nvGrpSpPr>
        <p:grpSpPr>
          <a:xfrm>
            <a:off x="5292720" y="3284640"/>
            <a:ext cx="3672000" cy="2376360"/>
            <a:chOff x="5292720" y="3284640"/>
            <a:chExt cx="3672000" cy="2376360"/>
          </a:xfrm>
        </p:grpSpPr>
        <p:cxnSp>
          <p:nvCxnSpPr>
            <p:cNvPr id="76" name="Straight Arrow Connector 34"/>
            <p:cNvCxnSpPr>
              <a:stCxn id="77" idx="3"/>
              <a:endCxn id="78" idx="7"/>
            </p:cNvCxnSpPr>
            <p:nvPr/>
          </p:nvCxnSpPr>
          <p:spPr>
            <a:xfrm flipH="1">
              <a:off x="6628680" y="346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79" name="Straight Arrow Connector 35"/>
            <p:cNvCxnSpPr>
              <a:stCxn id="77" idx="5"/>
              <a:endCxn id="80" idx="1"/>
            </p:cNvCxnSpPr>
            <p:nvPr/>
          </p:nvCxnSpPr>
          <p:spPr>
            <a:xfrm>
              <a:off x="7204680" y="346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1" name="Straight Arrow Connector 36"/>
            <p:cNvCxnSpPr>
              <a:stCxn id="78" idx="3"/>
              <a:endCxn id="82" idx="7"/>
            </p:cNvCxnSpPr>
            <p:nvPr/>
          </p:nvCxnSpPr>
          <p:spPr>
            <a:xfrm flipH="1">
              <a:off x="6052320" y="4189320"/>
              <a:ext cx="42444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3" name="Straight Arrow Connector 37"/>
            <p:cNvCxnSpPr>
              <a:stCxn id="78" idx="5"/>
              <a:endCxn id="84" idx="1"/>
            </p:cNvCxnSpPr>
            <p:nvPr/>
          </p:nvCxnSpPr>
          <p:spPr>
            <a:xfrm>
              <a:off x="6628320" y="4189320"/>
              <a:ext cx="42300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5" name="Straight Arrow Connector 38"/>
            <p:cNvCxnSpPr>
              <a:stCxn id="80" idx="3"/>
              <a:endCxn id="84" idx="7"/>
            </p:cNvCxnSpPr>
            <p:nvPr/>
          </p:nvCxnSpPr>
          <p:spPr>
            <a:xfrm flipH="1">
              <a:off x="7205040" y="4189320"/>
              <a:ext cx="42300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6" name="Straight Arrow Connector 39"/>
            <p:cNvCxnSpPr>
              <a:stCxn id="80" idx="5"/>
              <a:endCxn id="87" idx="1"/>
            </p:cNvCxnSpPr>
            <p:nvPr/>
          </p:nvCxnSpPr>
          <p:spPr>
            <a:xfrm>
              <a:off x="7779240" y="4189320"/>
              <a:ext cx="42444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8" name="Straight Arrow Connector 40"/>
            <p:cNvCxnSpPr>
              <a:stCxn id="82" idx="3"/>
              <a:endCxn id="89" idx="7"/>
            </p:cNvCxnSpPr>
            <p:nvPr/>
          </p:nvCxnSpPr>
          <p:spPr>
            <a:xfrm flipH="1">
              <a:off x="547596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0" name="Straight Arrow Connector 41"/>
            <p:cNvCxnSpPr>
              <a:stCxn id="82" idx="5"/>
              <a:endCxn id="91" idx="1"/>
            </p:cNvCxnSpPr>
            <p:nvPr/>
          </p:nvCxnSpPr>
          <p:spPr>
            <a:xfrm>
              <a:off x="605196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2" name="Straight Arrow Connector 42"/>
            <p:cNvCxnSpPr>
              <a:stCxn id="84" idx="3"/>
              <a:endCxn id="91" idx="7"/>
            </p:cNvCxnSpPr>
            <p:nvPr/>
          </p:nvCxnSpPr>
          <p:spPr>
            <a:xfrm flipH="1">
              <a:off x="6628680" y="490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3" name="Straight Arrow Connector 43"/>
            <p:cNvCxnSpPr>
              <a:stCxn id="84" idx="5"/>
              <a:endCxn id="94" idx="1"/>
            </p:cNvCxnSpPr>
            <p:nvPr/>
          </p:nvCxnSpPr>
          <p:spPr>
            <a:xfrm>
              <a:off x="7204680" y="490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5" name="Straight Arrow Connector 44"/>
            <p:cNvCxnSpPr>
              <a:stCxn id="87" idx="3"/>
              <a:endCxn id="94" idx="7"/>
            </p:cNvCxnSpPr>
            <p:nvPr/>
          </p:nvCxnSpPr>
          <p:spPr>
            <a:xfrm flipH="1">
              <a:off x="777960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6" name="Straight Arrow Connector 45"/>
            <p:cNvCxnSpPr>
              <a:stCxn id="87" idx="5"/>
              <a:endCxn id="97" idx="1"/>
            </p:cNvCxnSpPr>
            <p:nvPr/>
          </p:nvCxnSpPr>
          <p:spPr>
            <a:xfrm>
              <a:off x="835560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sp>
          <p:nvSpPr>
            <p:cNvPr id="77" name="Oval 46"/>
            <p:cNvSpPr/>
            <p:nvPr/>
          </p:nvSpPr>
          <p:spPr>
            <a:xfrm>
              <a:off x="7020000" y="3284640"/>
              <a:ext cx="2174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8" name="Oval 47"/>
            <p:cNvSpPr/>
            <p:nvPr/>
          </p:nvSpPr>
          <p:spPr>
            <a:xfrm>
              <a:off x="644508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0" name="Oval 48"/>
            <p:cNvSpPr/>
            <p:nvPr/>
          </p:nvSpPr>
          <p:spPr>
            <a:xfrm>
              <a:off x="759636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2" name="Oval 49"/>
            <p:cNvSpPr/>
            <p:nvPr/>
          </p:nvSpPr>
          <p:spPr>
            <a:xfrm>
              <a:off x="586872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4" name="Oval 50"/>
            <p:cNvSpPr/>
            <p:nvPr/>
          </p:nvSpPr>
          <p:spPr>
            <a:xfrm>
              <a:off x="7020000" y="4724640"/>
              <a:ext cx="2174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7" name="Oval 51"/>
            <p:cNvSpPr/>
            <p:nvPr/>
          </p:nvSpPr>
          <p:spPr>
            <a:xfrm>
              <a:off x="817272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9" name="Oval 52"/>
            <p:cNvSpPr/>
            <p:nvPr/>
          </p:nvSpPr>
          <p:spPr>
            <a:xfrm>
              <a:off x="529272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1" name="Oval 53"/>
            <p:cNvSpPr/>
            <p:nvPr/>
          </p:nvSpPr>
          <p:spPr>
            <a:xfrm>
              <a:off x="644508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4" name="Oval 54"/>
            <p:cNvSpPr/>
            <p:nvPr/>
          </p:nvSpPr>
          <p:spPr>
            <a:xfrm>
              <a:off x="759636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7" name="Oval 55"/>
            <p:cNvSpPr/>
            <p:nvPr/>
          </p:nvSpPr>
          <p:spPr>
            <a:xfrm>
              <a:off x="874908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Floyd-Warshallov algorit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efinirajmo si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dproble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: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dolžina najkrajše poti od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ki se med tema točkama sprehaja le po točkah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{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}, po ostalih pa n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robni prime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Očitno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0) kar enaka dolžini povezave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oz. je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če take povezave n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rekurzij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Gled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: mogoče najkrajša taka pot gre skoz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mogoče pa n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ne, je to kar enak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pa gre skoz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je do tam pot dolg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d tam naprej p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 koncu imamo v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dolžino najkrajše poti od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splo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je kakš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&lt; 0, vemo, da obstajajo v grafu negativni cikli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in so naši rezultati bolj ali manj numerično nesmiselni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Implementacij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Zapišimo ga s psevdokodo: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: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0] = dolžina povezave od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(oz.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če take povezave ni)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= min{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]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]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]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o računamo vredn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∙, ∙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potrebujemo l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∙ , ∙ 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)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se prejšnje pa lahko pozabim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Še več, dovolj je že, če imamo eno samo matriko: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j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= min{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doben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an je deterministični končni avtomat, sestavi nek regularni izraz, ki opisuje isti jezik kot ta končni avtoma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Avtomat je v bistvu graf s črkami na povezava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Stanja avtomata so točke grafa; eno od stanj je “začetno”, nekatera stanja so “končna”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Avtomat “sprejme” niz znakov, če obstaja v njem od začetnega do enega od končnih stanj taka pot, na kateri črke povezav tvorijo ravno ta niz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številčimo stanja in si zastavimo podproblem: 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regularni izraz za jezik vseh tistih nizov, ki naš avtomat pripeljejo od stanj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do stanj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pri tem gredo le skozi stanja 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}?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tem imamo </a:t>
            </a:r>
            <a:br>
              <a:rPr sz="2000"/>
            </a:b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k – 1) |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*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n na koncu za jezik celotnega avtomata, če 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začetno stanje in 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} množica indeksov končnih stanj</a:t>
            </a:r>
            <a:br>
              <a:rPr sz="2000"/>
            </a:b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|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| … |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Razdelitev na podzaporedja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z najmanjšo vsot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isarj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loga (s CERC 1998)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mamo zapored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s p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tranm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isarjev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vi bo prepisal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, drugi naslednj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, tretji naslednj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in tako naprej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as, ki ga nek pisar porabi za svoje delo, je sorazmeren skupnemu številu strani v knjigah, ki jih mora prepisat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si začnejo pisati istočasno, vsi delajo enako hitr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ako razdeliti knjige med pisarje, da bo vse končano čim prej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rej določ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tako, da bo največje število strani (po vseh pisarjih) čim manjš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Seveda ob omejitv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i razmisle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kupno število strani, ki jih mora prepisati pisar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rej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z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ecimo, da si nekako izberemo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oliko knjig bomo dali zadnjemu pisarju – torej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n bo torej pisal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čas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stane nam vprašanje, kako prvi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knjig razdeliti med preostali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 pisarjev in koliko časa bo v tem primeru pisal najbolj obremenjen pisar med njim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Tako smo dobili podproblem: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čas, ki ga porabi najbolj obremenjeni pisar, če delimo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med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isarjev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Če zadnji pisar, torej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dob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knjig, porabi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časa,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stali pisarji pa za ostale knjige v tem primeru porabij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 čas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rej je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= min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0 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max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}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Implementacij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ot ponavadi pri dinamičnem programiranju vidimo, da 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sicer definirana rekurzivno, vendar bi pri rekurziji velikokrat obravnavali ene in iste podprobleme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Že izračunane rezultate hranimo v tabeli, lahko jih tudi računamo sistematično po naraščajoč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0, 1] = 0;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1]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1]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2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0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= 0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1 t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]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0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an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]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:= min(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an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idimo tudi, da ko končamo z računanjem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pozabimo vse rezultate 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], ker jih ne bomo več potreboval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rugačna rešite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Mimogrede, to nalogo lahko rešimo tudi brez dinamičnega programiranj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prašajmo se: ali je mogoče razdeliti knjige tako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da noben pisar ne dobi več kot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trani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ajmo prvemu pisarju toliko prvih knjig, kolikor je le mogoče,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reden bi presegle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stran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Nato dajmo drugemu pisarju toliko nadaljnjih knjig,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kolikor je le mogoče, preden bi presegle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stran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Itd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nam zmanjka knjig prej kot pisarjev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je razpored z omejitvij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mogoč, sicer pa n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manjši možn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oiščimo z bisekcij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0/1 nahrbtnik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Nahrbtni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predmetov z masami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in vrednostmi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 nahrbtnik bi radi naložili nekaj predmetov in to tako, da bo vsota vrednosti čim večja, vsota mas pa ne bo presegl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mejimo se na primere, ko so mas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n kapaciteta nahrbtnik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cela števil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Množenje matrik, oklepajski izrazi, delitev zemljišč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i razmisle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redmet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lahko naložimo ali pa tudi n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Če ga naložimo, nam ostane problem z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 predmeti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in s kapaciteto nahrbtnika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Če ga ne naložimo, nam ostane problem z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 predmeti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in s kapaciteto nahrbtnika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efinirajmo torej podproblem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 = največja vrednost, ki jo lahko zložimo v nahrbtnik,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če ima le-ta kapaciteto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in če lahko uporabimo le prvih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predmetov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Velja torej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 = max{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}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 lahko računamo sistematično po naraščajoči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Ko izračunamo vse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.), lahko vrednosti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, .) pozabimo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a postopek ni primeren, če mase niso cela števil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Mogoče jih lahko damo na skupni imenovalec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ostopek je tudi neučinkovit, če so mase (in kapacitet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velike: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Zares učinkovite rešitve za problem nahrbtnika ne poznamo, saj je NP-teža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34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Garamond"/>
              </a:rPr>
              <a:t>Možnih je 2</a:t>
            </a:r>
            <a:r>
              <a:rPr b="0" i="1" lang="sl-SI" sz="14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400" spc="-1" strike="noStrike">
                <a:solidFill>
                  <a:srgbClr val="000000"/>
                </a:solidFill>
                <a:latin typeface="Garamond"/>
              </a:rPr>
              <a:t> kombinacij predmetov in če imamo smolo, ima vsaka kombinacija drugačno maso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doben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Vračilo denarja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Možne vrednosti kovancev s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S čim manj kovanci sestavi znesek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Primer: kovanci 50, 20, 1, znesek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60;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bolje je 20 + 20 + 20 kot 50 + 1 + 1 + … + 1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 = min{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, 1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z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rugačen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hrbtnik, pri katerem lahko predmete poljubno razrežem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(in vzamemo predmet le delno, ne nujno v celoti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ešitev: jemljemo jih po padajočem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/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dokler nahrbtnik ni pol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Zadnjega od teh predmetov po potrebi razrežem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Razn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št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loga (z IOI 2000)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 številski premici stoj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asi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…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zmed teh vasi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bi radi postavili pošt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Minimiziraj vsoto razdalj od vsake vasi do najbližje pošt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ajbol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ša rešitev 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ošt in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vasi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i čemer mora zadnja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-ta) pošta stati v zadnji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-ti) vas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 vsak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d 1 d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914400" indent="-1828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Če bi postavili 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-vo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ošto n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poglejmo, katerim vasem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izmed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bo najbližja pošt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katerim p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14400" indent="-1828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zemimo [vsoto njihovih oddaljenosti od najbližje pošte] + 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vzamemo minimum tega po vse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najboljša rešitev 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ošt in vse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vasi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i čemer zadnja pošta stoji v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-ti vasi: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=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|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loga sprašuje po ma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Trikotnik števil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loga (z IOI 1994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an je trikotnik števil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, 1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Začnemo v vrhu, pr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 vsakem koraku se premaknemo dol in levo/desno, z </a:t>
            </a:r>
            <a:br>
              <a:rPr sz="2400"/>
            </a:b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n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 1, 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ali n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o pridemo na dno, se ustavim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Maksimiziraj vsoto tako obiskanih števi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najboljša vsota, če pot začnemo pr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tem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max{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sebne ponudb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loga (z IOI 1995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rgovina prodaj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5 vrst izdelkov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-te po cen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adi bi kupili natank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5 izdelkov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-te vrst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bstaja do 100 posebnih ponudb: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-ta med njimi je „komplet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zdelkov tip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po vseh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lahko dobimo za cen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najcenejši nakup natank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zdelkov vrst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 kandidati so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[č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gt; 0] ipd. za druge tip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[če so vs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Črni in beli trikotnik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loga (s SWERC 1997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Enakostranični trikotnik s stranic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razdelimo n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enakostraničnih trikotnikov s stranico 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sakega od njih pobarvamo črno ali bel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išči največji enobarvni trikotni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velikost enobarvnega trikotnika z vrhom v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in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tistega z dnom v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1 + min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)}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so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ste barve kot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j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1 + min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},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so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ste barve kot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j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aznašalca paketo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loga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Dano je zaporedje točk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y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, i = 1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sako točko mora obiskati eden od dveh raznašalcev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sak raznašalec obiskuje točke po naraščajočih indeksi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Minimiziraj skupno dolžino poti obe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imamo le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točk, točk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bišče prvi raznašalec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točk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a drug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točka, iz katere je drugi šel v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+2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…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zemimo minimum po vse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seben primer: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0 naj pomeni, da vse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točk obišče prv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Naloge s codeforce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-tree </a:t>
            </a:r>
            <a:r>
              <a:rPr b="0" lang="sl-SI" sz="2400" spc="-1" strike="noStrike" u="sng">
                <a:solidFill>
                  <a:srgbClr val="ff0000"/>
                </a:solidFill>
                <a:uFillTx/>
                <a:latin typeface="Garamond"/>
                <a:hlinkClick r:id="rId1"/>
              </a:rPr>
              <a:t>https://codeforces.com/problemset/problem/431/C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 koliko načinov lahko izrazim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ot vsoto celih števil iz {1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}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i čemer mora biti vsaj en seštevanec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laying Piano </a:t>
            </a:r>
            <a:r>
              <a:rPr b="0" lang="sl-SI" sz="2400" spc="-1" strike="noStrike" u="sng">
                <a:solidFill>
                  <a:srgbClr val="ff0000"/>
                </a:solidFill>
                <a:uFillTx/>
                <a:latin typeface="Garamond"/>
                <a:hlinkClick r:id="rId2"/>
              </a:rPr>
              <a:t>https://codeforces.com/problemset/problem/1032/C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ščemo zaporedje števil iz {1, …, 5} z omejitvami oblike </a:t>
            </a:r>
            <a:br>
              <a:rPr sz="2000"/>
            </a:b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{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&gt;, &lt;}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 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Shaass and Bookshelf </a:t>
            </a:r>
            <a:r>
              <a:rPr b="0" lang="sl-SI" sz="2400" spc="-1" strike="noStrike" u="sng">
                <a:solidFill>
                  <a:srgbClr val="ff0000"/>
                </a:solidFill>
                <a:uFillTx/>
                <a:latin typeface="Garamond"/>
                <a:hlinkClick r:id="rId3"/>
              </a:rPr>
              <a:t>https://codeforces.com/problemset/problem/294/B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debelin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{1, 2} in širin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zberi neko podmnožico tako, da bo vsota njihovih debelin čim manjša, vendar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d vsote širin ostalih knji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rešujemo kot nahrbtnik ali pa brez DP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Ena od nalog z južnoameriškega regijskega tekmovanja ACM 2005 (malo okleščena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Imamo podolgovato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zemljišče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široko 1 enoto in dolg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eno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adi bi ga z navpičnimi črtami razdelili na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zemljišč, dolgih p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enot (v tem vrstnem redu)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Vsakič ko razrežemo zemljišče dolžine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 zemljišče dolžine a in zemljišče dolžine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moramo plačati max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 denarnih enot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davka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V kakšnem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vrstnem redu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naj režemo zemljišče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5508720" y="1557360"/>
            <a:ext cx="1439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7813800" y="155736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7237440" y="1557360"/>
            <a:ext cx="57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6948360" y="1557360"/>
            <a:ext cx="2890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rimer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1258920" y="2494080"/>
            <a:ext cx="316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1258920" y="3357720"/>
            <a:ext cx="23050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Rectangle 30"/>
          <p:cNvSpPr/>
          <p:nvPr/>
        </p:nvSpPr>
        <p:spPr>
          <a:xfrm>
            <a:off x="3564000" y="3357720"/>
            <a:ext cx="863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Rectangle 32"/>
          <p:cNvSpPr/>
          <p:nvPr/>
        </p:nvSpPr>
        <p:spPr>
          <a:xfrm>
            <a:off x="1258920" y="4149720"/>
            <a:ext cx="172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Rectangle 33"/>
          <p:cNvSpPr/>
          <p:nvPr/>
        </p:nvSpPr>
        <p:spPr>
          <a:xfrm>
            <a:off x="3564000" y="414972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Rectangle 34"/>
          <p:cNvSpPr/>
          <p:nvPr/>
        </p:nvSpPr>
        <p:spPr>
          <a:xfrm>
            <a:off x="2987640" y="4149720"/>
            <a:ext cx="57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Rectangle 35"/>
          <p:cNvSpPr/>
          <p:nvPr/>
        </p:nvSpPr>
        <p:spPr>
          <a:xfrm>
            <a:off x="1258920" y="5013360"/>
            <a:ext cx="1440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Rectangle 36"/>
          <p:cNvSpPr/>
          <p:nvPr/>
        </p:nvSpPr>
        <p:spPr>
          <a:xfrm>
            <a:off x="3564000" y="5013360"/>
            <a:ext cx="863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Rectangle 37"/>
          <p:cNvSpPr/>
          <p:nvPr/>
        </p:nvSpPr>
        <p:spPr>
          <a:xfrm>
            <a:off x="2987640" y="5013360"/>
            <a:ext cx="57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Rectangle 38"/>
          <p:cNvSpPr/>
          <p:nvPr/>
        </p:nvSpPr>
        <p:spPr>
          <a:xfrm>
            <a:off x="2698920" y="5013360"/>
            <a:ext cx="2887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Rectangle 40"/>
          <p:cNvSpPr/>
          <p:nvPr/>
        </p:nvSpPr>
        <p:spPr>
          <a:xfrm>
            <a:off x="4643280" y="2494080"/>
            <a:ext cx="316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Rectangle 41"/>
          <p:cNvSpPr/>
          <p:nvPr/>
        </p:nvSpPr>
        <p:spPr>
          <a:xfrm>
            <a:off x="4643280" y="3357720"/>
            <a:ext cx="1440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Rectangle 42"/>
          <p:cNvSpPr/>
          <p:nvPr/>
        </p:nvSpPr>
        <p:spPr>
          <a:xfrm>
            <a:off x="6083280" y="3357720"/>
            <a:ext cx="17287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Rectangle 43"/>
          <p:cNvSpPr/>
          <p:nvPr/>
        </p:nvSpPr>
        <p:spPr>
          <a:xfrm>
            <a:off x="6948360" y="414972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Rectangle 44"/>
          <p:cNvSpPr/>
          <p:nvPr/>
        </p:nvSpPr>
        <p:spPr>
          <a:xfrm>
            <a:off x="4643280" y="4149720"/>
            <a:ext cx="14414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Rectangle 45"/>
          <p:cNvSpPr/>
          <p:nvPr/>
        </p:nvSpPr>
        <p:spPr>
          <a:xfrm>
            <a:off x="6083280" y="414972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Rectangle 47"/>
          <p:cNvSpPr/>
          <p:nvPr/>
        </p:nvSpPr>
        <p:spPr>
          <a:xfrm>
            <a:off x="6948360" y="501336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Rectangle 48"/>
          <p:cNvSpPr/>
          <p:nvPr/>
        </p:nvSpPr>
        <p:spPr>
          <a:xfrm>
            <a:off x="4643280" y="5013360"/>
            <a:ext cx="14414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Rectangle 49"/>
          <p:cNvSpPr/>
          <p:nvPr/>
        </p:nvSpPr>
        <p:spPr>
          <a:xfrm>
            <a:off x="6083280" y="5013360"/>
            <a:ext cx="2890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Rectangle 50"/>
          <p:cNvSpPr/>
          <p:nvPr/>
        </p:nvSpPr>
        <p:spPr>
          <a:xfrm>
            <a:off x="6372360" y="5013360"/>
            <a:ext cx="57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Text Box 52"/>
          <p:cNvSpPr/>
          <p:nvPr/>
        </p:nvSpPr>
        <p:spPr>
          <a:xfrm>
            <a:off x="1258920" y="2852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11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8 + 3 (davek: 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Text Box 53"/>
          <p:cNvSpPr/>
          <p:nvPr/>
        </p:nvSpPr>
        <p:spPr>
          <a:xfrm>
            <a:off x="4643280" y="2852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11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5 + 6 (davek: 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Text Box 54"/>
          <p:cNvSpPr/>
          <p:nvPr/>
        </p:nvSpPr>
        <p:spPr>
          <a:xfrm>
            <a:off x="1258920" y="3718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8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6 + 2 (davek: 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Text Box 55"/>
          <p:cNvSpPr/>
          <p:nvPr/>
        </p:nvSpPr>
        <p:spPr>
          <a:xfrm>
            <a:off x="4643280" y="3718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6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3 + 3 (davek: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Text Box 58"/>
          <p:cNvSpPr/>
          <p:nvPr/>
        </p:nvSpPr>
        <p:spPr>
          <a:xfrm>
            <a:off x="1258920" y="4510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6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5 + 1 (davek: 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Text Box 59"/>
          <p:cNvSpPr/>
          <p:nvPr/>
        </p:nvSpPr>
        <p:spPr>
          <a:xfrm>
            <a:off x="4643280" y="4510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3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2 + 1 (davek: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Text Box 60"/>
          <p:cNvSpPr/>
          <p:nvPr/>
        </p:nvSpPr>
        <p:spPr>
          <a:xfrm>
            <a:off x="1258920" y="54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davek skupaj: 1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Text Box 61"/>
          <p:cNvSpPr/>
          <p:nvPr/>
        </p:nvSpPr>
        <p:spPr>
          <a:xfrm>
            <a:off x="4643280" y="54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davek skupaj: 1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4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5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1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2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4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3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roblem in podproblem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š prvi rez razreže zemljišče na dva kosa.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cimo, da je levi kos širok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enot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esni p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enot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Zdaj je, kar je; davek bomo plačali; potem pa nam preostane le še to, da vsakega od teh dveh kosov posebej razrežemo čim ceneje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evi kos nič ne vpliva na desnega in obratno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Torej je vsak od njiju sam zase pravzaprav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čisto enak proble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ot prvotni, le da je malo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manj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: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mesto 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zemljišč bi radi delili 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(pri levem kosu)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z. 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(pri desnem kosu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er pa vnaprej ne vemo, kater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bo pripeljal do najcenejše rešitve, moramo pač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reizkusiti vs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a rešite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roblem smo razbili na podprobleme, ki so mu v vseh pogledih enaki (le da so manjši), tako da se ga je pametno lotiti z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rekurzij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0;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robni primer — ni česa rezati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             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idimo lahko, da je zaporedje, ki ga prenašamo kot parameter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edno nek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dzaporedj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prvotnega 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to je v praksi dovolj, če povemo le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začetni in končni indek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celotno zaporedje pa hranimo v neki globalni spremenljivki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  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rešuje podzaporedje (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i 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i</a:t>
            </a:r>
            <a:r>
              <a:rPr b="0" lang="sl-SI" sz="2400" spc="-1" strike="noStrike" baseline="-25000">
                <a:solidFill>
                  <a:srgbClr val="0070c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400" spc="-1" strike="noStrike" baseline="-25000">
                <a:solidFill>
                  <a:srgbClr val="0070c0"/>
                </a:solidFill>
                <a:latin typeface="Garamond"/>
              </a:rPr>
              <a:t>–1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0;  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ni česa rezati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Žal je ta rešitev časovno precej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trat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a rešite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Časovna zahtevnos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Če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 dolžina opazovanega podzaporedja,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b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poklicala po dva klica za podzaporedja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olžine 1, 2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število klicev za podzaporedja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 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idimo torej, da je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(glavni klic)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to pa                 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Garamond"/>
              </a:rPr>
              <a:t>+2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+ ... + 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)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2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2(1 + 2) = 6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2(1 + 2 + 6) = 18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4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54,   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5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62,   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6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486, ..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Če malo potelovadimo z rodovnimi funkcijami, vidimo: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Garamond"/>
              </a:rPr>
              <a:t> – 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= 2 </a:t>
            </a:r>
            <a:r>
              <a:rPr b="0" lang="sl-SI" sz="2400" spc="-1" strike="noStrike">
                <a:solidFill>
                  <a:srgbClr val="ff0000"/>
                </a:solidFill>
                <a:latin typeface="Symbol"/>
                <a:ea typeface="Symbol"/>
              </a:rPr>
              <a:t>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3</a:t>
            </a:r>
            <a:r>
              <a:rPr b="0" i="1" lang="sl-SI" sz="2400" spc="-1" strike="noStrike" baseline="30000">
                <a:solidFill>
                  <a:srgbClr val="ff0000"/>
                </a:solidFill>
                <a:latin typeface="Garamond"/>
              </a:rPr>
              <a:t>k</a:t>
            </a:r>
            <a:r>
              <a:rPr b="0" lang="sl-SI" sz="2400" spc="-1" strike="noStrike" baseline="30000">
                <a:solidFill>
                  <a:srgbClr val="ff0000"/>
                </a:solidFill>
                <a:latin typeface="Garamond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seh klicev skupaj b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#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ravn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3</a:t>
            </a:r>
            <a:r>
              <a:rPr b="0" i="1" lang="sl-SI" sz="2400" spc="-1" strike="noStrike" baseline="30000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400" spc="-1" strike="noStrike" baseline="30000">
                <a:solidFill>
                  <a:srgbClr val="ff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5:09:15Z</dcterms:created>
  <dc:creator>Janez Brank</dc:creator>
  <dc:description/>
  <dc:language>en-US</dc:language>
  <cp:lastModifiedBy>Janez Brank</cp:lastModifiedBy>
  <dcterms:modified xsi:type="dcterms:W3CDTF">2022-12-06T08:35:24Z</dcterms:modified>
  <cp:revision>298</cp:revision>
  <dc:subject/>
  <dc:title>Dinamično programiranje</dc:title>
</cp:coreProperties>
</file>